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EDCCF3-7795-4AAA-A56E-7AFFF92796C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74CD1-BDEB-44BD-AD31-8FF88BE315F8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17B-23A4-4F1E-B048-C4137E01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C03-F87D-4BFD-9337-E0968C21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702A-CFE7-4522-8573-E3EB4D70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A1015-C4BB-4613-B9F1-36641BA7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6A80B-6022-4BA0-A8B0-487BD530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04AC2-01D9-489D-B5EA-EFE1FFCD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04F3D-3A70-4F4F-8504-D33B0BF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DF7A6-9153-491C-B01C-83597DF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27911-53A4-4FBA-A97D-E94CA9E7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B4BD7-6AC8-46E1-890E-4CA94425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9E64-36CB-496C-B994-7C0C2361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F1C6D-F12B-4D12-8F61-1900B959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7B1-F28D-4DC7-A204-BB84E985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2E0B5-5C15-4BAD-837F-36E48F6C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B51F3-5787-4C5F-9992-3D534F16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29E56-4B97-4992-9E18-82D4BEED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669D6-82A8-411E-B795-55D55F62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87E30-E591-4661-B6C3-90E0C158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0FCF1-753E-4C06-9447-B8BEB749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3272F-FE68-470D-9E23-E07B2481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3E809-1653-4BDA-B87F-5987DF36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D7A14-72BF-401E-BBD3-7EC97CC7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12D4-CC85-4B7A-900E-9826B789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FF7-875D-4B3D-8E2D-1EFFE1E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61A36-83D7-461C-AE33-55C0726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0CF23-F67C-42F5-936D-584EEC98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A3D2C-0B4A-490B-A40D-330E4E2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C00D7-06FD-413B-9BD7-9A34F91C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D6AA3-473E-41AE-8004-19C4C909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1DBAF-29D8-4AFE-9B32-A3CA8F6E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269CC-0703-410A-98E4-BABAE0E4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1B2A9-2C7C-46F9-86CC-616FAE56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E13E-9559-4AEB-A9AC-AF69D385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1924E-206C-453F-877C-11DD4D26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1A81E-4FB9-433A-8982-4D88557F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10264-2775-4040-A53F-6DD4469C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D3990-0CC0-4D67-871B-AEA0BD29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C43F7-2695-42CB-9959-ACECCE29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FEE55-246F-477D-8384-057EBB11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B929D-A1A7-4071-B3BF-4979115F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C0126-8C4B-4D81-91E0-5CF5282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D8152-B76C-4891-891E-427E019A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8D105-CB0F-49BE-BC0A-D5DAE6D2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27CFF-6875-4386-A6A9-D959E6EF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9CB9F-A867-43DA-88D5-16AB4830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C0ECB-6BFE-4684-A6AD-611D41B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D0302-988A-4F6C-A777-9629C8A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BC05E-563A-449B-84AA-5F93E23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BA180-6AA7-498E-9E0E-D4D4083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5D681-23F8-44A1-9A3A-684CA394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2B94A-6841-4919-BC69-4F640ECB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DF082-1F05-4EBB-B964-FB6DED3C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A77DE-9F12-4B1E-975A-48F231B9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37E55-D91B-4848-908A-FA9F7CB8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FF765-3BA9-492F-8625-A0A386D0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7B7CA-6954-4F3E-9C02-BED7A940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76C93-BD37-43BC-A1E9-9C146FAB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9BBFE-57A0-4D64-AEEA-8F83989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FAA2F-529E-4698-A188-20D96FD0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46458-891B-4B6B-AA28-72F625B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E4D35-C887-41CB-875D-BFE1C1C3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B5490-368D-4913-874C-9A1F558E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9FD2C-90CF-4625-9382-FF7E1110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F99EF-F5D8-4AD2-AAA8-78CA6768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CC9D2-5940-4DB4-8FD0-C9AE87DE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9D509-2E32-48E4-91C6-8217D702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C3032-7F9B-483D-8153-4490A4E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AE0EB-794D-466D-B888-CE8F1EEE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8B9-0B48-4C49-9502-9A43734C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DBBE3-ECAC-4D35-ADFD-BEDCDC4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21FBB-0F8C-48F6-9B1D-7CB136C3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10CF3-1E41-40A7-9043-9905EF7C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DBA3A-1213-4360-91F4-97D0D6B7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3B9CD-030A-4870-97F1-3C6A6179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217E-4C61-49D3-9079-C2525FE1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93E7-FAEE-49F2-9183-E8E8B1E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342BF-769E-4E71-AE6D-7A85BBC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8CB7-6AE7-4781-9720-D6451298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0EDA-5F18-4A42-9191-9851501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AA9-A500-453C-93E9-9FF2F8F6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F067-247C-4993-BC7B-DD4F358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09A4-A4DB-488E-866E-1132118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EAE1-9474-4CC8-83F8-FB7A4A9D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16B24-CC98-42AF-85C0-DADD465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0CAF7-62A2-484F-9F11-51530531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2A7C-56B3-4F81-A058-5B2BC1E7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AD3D-88FB-4CE5-B145-05EFC61C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4DD5-0176-40C6-A372-FD1EDA87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3EF36-A42F-495E-A5D5-5058599A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2573-DED1-44F8-AC6E-F5D4D78A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97BA-4F0F-4EEB-98F9-9A083D40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D01E-CD55-4730-BB6C-77AD9ED4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12316-AAB3-4871-8951-1E68796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5329A-770F-4A2A-903E-2735ECF1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6EA2F-1461-484B-9E97-5A27D42F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D2A3-C9FB-45B0-98D0-69420A7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225AF-9088-405D-B3BC-FC3FD60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D8CB8-535B-4E38-832E-82D62E04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862B0-35FA-43CD-9C28-21C330E0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617A2-4511-40AF-B459-A5514B7D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9A30-0EF8-40CF-BC2A-58976B29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A77-A9E1-4009-BF0F-8A3E8FBA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F3B9-F22E-43F9-9664-1987559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1394-A114-41BE-9513-0F87536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9A49B-A790-4410-95F8-7A8E567A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4FF2-96AA-4133-AD62-8B0D5866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BCAE4-D09B-40B3-A602-B953B01C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88A56-9AE5-4191-8FC5-9E223900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DC65-02D5-4A23-A7DE-1AD1CF3A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43704-0D4E-402E-AC4D-D666CC66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CAA0-BAC8-4613-B972-652A3C6F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9D36-A03C-4137-B5A3-B730C956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1A9-0B11-45C8-BF88-9FA0EB7F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4551-8C13-4118-BD2E-3BE30BF1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80B9-B4E8-41E5-9916-ADDF0BE8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0EC43-FF74-4725-AF02-9175C3C7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FCA64-0AD6-4501-A604-D8EE4578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827A0-8037-466A-92B5-2495A4EF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7ACE-88D8-4CE3-B683-0928A697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257BD-5905-4E25-A16C-938351A0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2CDB-A9E9-4F72-80DA-CE1B197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BD97-BA7D-4863-B2D7-4709BC7B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5EAF9-D264-427A-A28F-A730A7F8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293-5DE0-4229-BE1B-45914E8E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A2F03-3D23-414F-8B63-406217E4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E34DB-18BF-4947-AB9A-0D2C0C51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7735-7C86-4A5C-897A-C585F084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25025-172C-422D-91DC-C268E230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32A03-7B0F-432A-A630-5C4356DB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FF92-F3AE-4A27-9C20-BBAA6DEE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4C6C2-CAC5-40FE-ABB2-83741561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D8944-42A3-4411-A930-3A3168ED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32670-1B70-481F-912C-AC9EAE50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FD79-3D2C-4637-B02F-E9D64A9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F4E-4EB1-4CDA-B908-64E73AA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F99A1-83B1-4529-BFA1-AF0C518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03B48-52EB-4CBE-AA37-987F80FC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912A-C18D-47CA-9081-7267021F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8C7D5-AC45-405A-BC8E-FC1B8E48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9051-0F7E-4E02-93EC-005D1AEA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0064A-D75A-432A-9BA0-44794E7A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CB556-11F1-4EB4-BC90-4CC0ADFB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221F-8890-4F25-819B-144BF715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CFB51-C5C2-4B43-AB62-F2F63C06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507D-CED6-4145-9793-2E70EB8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843-963E-4501-819F-0B0632AE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67F60-C096-47EB-82B4-84229D24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0AF43-14CE-462F-B4CA-1360B2AA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D67FB-0FA3-4A69-82C9-36A9728A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38389-ED27-4BEA-ABBF-881A925F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79C29-B2CC-4BD5-A8DC-5596527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2B53F-055A-47B7-B2CA-C8A6A923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4027-28F7-4D4A-9C64-DEAC231E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CA8B-4EBA-4A4A-B9C0-775796A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45F04-6E59-4922-B6E4-08F9F97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6329F-D14E-49B7-B708-A35BED0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51CE-1232-4D7A-AFE7-9D80FDC197F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414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417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7F52-B452-464C-BC58-16CD4D0FF74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460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463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F39-7A73-4BE9-AEC2-1DCDF2384A1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6 Rectángulo"/>
          <p:cNvGrpSpPr/>
          <p:nvPr/>
        </p:nvGrpSpPr>
        <p:grpSpPr>
          <a:xfrm>
            <a:off x="6724800" y="-30240"/>
            <a:ext cx="206280" cy="6510240"/>
            <a:chOff x="6724800" y="-30240"/>
            <a:chExt cx="206280" cy="6510240"/>
          </a:xfrm>
        </p:grpSpPr>
        <p:pic>
          <p:nvPicPr>
            <p:cNvPr id="506" name="6 Rectángulo" descr=""/>
            <p:cNvPicPr/>
            <p:nvPr/>
          </p:nvPicPr>
          <p:blipFill>
            <a:blip r:embed="rId2"/>
            <a:stretch/>
          </p:blipFill>
          <p:spPr>
            <a:xfrm>
              <a:off x="6724800" y="-30240"/>
              <a:ext cx="206280" cy="65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 rot="5400000">
              <a:off x="3627000" y="3151080"/>
              <a:ext cx="6400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509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335F-45EC-4A8F-986F-83302DF98E4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D75-DFE7-42F2-B28A-9FE9EFD592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E8AD-AB77-4806-B7F5-D77E1448775F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6 Rectángulo"/>
          <p:cNvGrpSpPr/>
          <p:nvPr/>
        </p:nvGrpSpPr>
        <p:grpSpPr>
          <a:xfrm>
            <a:off x="-55440" y="781200"/>
            <a:ext cx="9254880" cy="2968560"/>
            <a:chOff x="-55440" y="781200"/>
            <a:chExt cx="9254880" cy="2968560"/>
          </a:xfrm>
        </p:grpSpPr>
        <p:pic>
          <p:nvPicPr>
            <p:cNvPr id="85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81200"/>
              <a:ext cx="925488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811080"/>
              <a:ext cx="91440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10 Imagen" descr="logoplata300.png"/>
          <p:cNvPicPr/>
          <p:nvPr/>
        </p:nvPicPr>
        <p:blipFill>
          <a:blip r:embed="rId3"/>
          <a:stretch/>
        </p:blipFill>
        <p:spPr>
          <a:xfrm>
            <a:off x="6215040" y="1025640"/>
            <a:ext cx="2567160" cy="2538360"/>
          </a:xfrm>
          <a:prstGeom prst="rect">
            <a:avLst/>
          </a:prstGeom>
          <a:ln w="0">
            <a:noFill/>
          </a:ln>
        </p:spPr>
      </p:pic>
      <p:sp>
        <p:nvSpPr>
          <p:cNvPr id="88" name="8 CuadroTexto"/>
          <p:cNvSpPr/>
          <p:nvPr/>
        </p:nvSpPr>
        <p:spPr>
          <a:xfrm>
            <a:off x="0" y="1382760"/>
            <a:ext cx="607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Centros de Integración Juvenil, A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“</a:t>
            </a:r>
            <a:r>
              <a:rPr b="1" i="1" lang="es-MX" sz="1800" spc="-1" strike="noStrike">
                <a:solidFill>
                  <a:srgbClr val="dbeef4"/>
                </a:solidFill>
                <a:latin typeface="Calibri"/>
              </a:rPr>
              <a:t>Para Vivir sin Adicciones</a:t>
            </a: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www.cij.gob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9 Conector recto"/>
          <p:cNvSpPr/>
          <p:nvPr/>
        </p:nvSpPr>
        <p:spPr>
          <a:xfrm flipH="1" flipV="1">
            <a:off x="1428840" y="2141640"/>
            <a:ext cx="4572000" cy="792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"/>
          <p:cNvGrpSpPr/>
          <p:nvPr/>
        </p:nvGrpSpPr>
        <p:grpSpPr>
          <a:xfrm>
            <a:off x="-30240" y="3352680"/>
            <a:ext cx="9204480" cy="341280"/>
            <a:chOff x="-30240" y="3352680"/>
            <a:chExt cx="9204480" cy="341280"/>
          </a:xfrm>
        </p:grpSpPr>
        <p:pic>
          <p:nvPicPr>
            <p:cNvPr id="91" name="10 Rectángulo" descr=""/>
            <p:cNvPicPr/>
            <p:nvPr/>
          </p:nvPicPr>
          <p:blipFill>
            <a:blip r:embed="rId4"/>
            <a:stretch/>
          </p:blipFill>
          <p:spPr>
            <a:xfrm>
              <a:off x="-30240" y="3352680"/>
              <a:ext cx="92044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338292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"/>
          <p:cNvGrpSpPr/>
          <p:nvPr/>
        </p:nvGrpSpPr>
        <p:grpSpPr>
          <a:xfrm>
            <a:off x="-23760" y="781200"/>
            <a:ext cx="9198000" cy="341280"/>
            <a:chOff x="-23760" y="781200"/>
            <a:chExt cx="9198000" cy="341280"/>
          </a:xfrm>
        </p:grpSpPr>
        <p:pic>
          <p:nvPicPr>
            <p:cNvPr id="94" name="11 Rectángulo" descr=""/>
            <p:cNvPicPr/>
            <p:nvPr/>
          </p:nvPicPr>
          <p:blipFill>
            <a:blip r:embed="rId5"/>
            <a:stretch/>
          </p:blipFill>
          <p:spPr>
            <a:xfrm>
              <a:off x="-23760" y="781200"/>
              <a:ext cx="91980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0" y="81108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D86-FF47-4751-A661-B8CF4F1C323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138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141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D4CF-EC4B-42BC-9F17-38CE975BA9F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184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187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F43-C717-4E7E-862F-30F51090F73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230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233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2A5B-9EEE-472D-9A75-E9C26380A5B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276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279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7067-E136-4208-95F0-2095E351015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6 Rectángulo"/>
          <p:cNvGrpSpPr/>
          <p:nvPr/>
        </p:nvGrpSpPr>
        <p:grpSpPr>
          <a:xfrm>
            <a:off x="-55440" y="781200"/>
            <a:ext cx="9254880" cy="206280"/>
            <a:chOff x="-55440" y="781200"/>
            <a:chExt cx="9254880" cy="206280"/>
          </a:xfrm>
        </p:grpSpPr>
        <p:pic>
          <p:nvPicPr>
            <p:cNvPr id="322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81200"/>
              <a:ext cx="925488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0" y="812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325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C29-2385-4F40-A9F7-F3DB93F9167C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368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EFEA-D7AD-443B-8E5C-4E443E35B55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320" y="167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675e47"/>
                </a:solidFill>
                <a:latin typeface="Arial"/>
                <a:ea typeface="Arial"/>
              </a:rPr>
              <a:t>CONSUMO DE DROGAS: </a:t>
            </a:r>
            <a:br>
              <a:rPr sz="3100"/>
            </a:br>
            <a:r>
              <a:rPr b="1" lang="es-MX" sz="3100" spc="-1" strike="noStrike">
                <a:solidFill>
                  <a:srgbClr val="675e47"/>
                </a:solidFill>
                <a:latin typeface="Arial"/>
                <a:ea typeface="Arial"/>
              </a:rPr>
              <a:t>UN PROBLEMA DE SALUD PÚBLICA </a:t>
            </a:r>
            <a:endParaRPr b="0" lang="en-US" sz="3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18960" y="4190760"/>
            <a:ext cx="6019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94231"/>
                </a:solidFill>
                <a:latin typeface="Arial"/>
                <a:ea typeface="Arial"/>
              </a:rPr>
              <a:t>Dr. Ricardo Sánchez Huesc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94231"/>
                </a:solidFill>
                <a:latin typeface="Arial"/>
                <a:ea typeface="Arial"/>
              </a:rPr>
              <a:t>Mérida  2013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1" name="3 CuadroTexto"/>
          <p:cNvSpPr/>
          <p:nvPr/>
        </p:nvSpPr>
        <p:spPr>
          <a:xfrm>
            <a:off x="0" y="0"/>
            <a:ext cx="8458200" cy="237816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4d4635"/>
                </a:solidFill>
                <a:latin typeface="Arial"/>
              </a:rPr>
              <a:t>Kanank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4d4635"/>
                </a:solidFill>
                <a:latin typeface="Arial"/>
              </a:rPr>
              <a:t>Centros de Integración Juvenil A.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4d4635"/>
                </a:solidFill>
                <a:latin typeface="Arial"/>
              </a:rPr>
              <a:t>Universidad Autónoma de Yucatá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522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rbel"/>
              </a:rPr>
              <a:t>Consumo de cannabis en los últimos 12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stimaciones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12 Tabla" descr=""/>
          <p:cNvPicPr/>
          <p:nvPr/>
        </p:nvPicPr>
        <p:blipFill>
          <a:blip r:embed="rId1"/>
          <a:stretch/>
        </p:blipFill>
        <p:spPr>
          <a:xfrm>
            <a:off x="0" y="1133640"/>
            <a:ext cx="8620200" cy="50353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4"/>
          <p:cNvSpPr/>
          <p:nvPr/>
        </p:nvSpPr>
        <p:spPr>
          <a:xfrm>
            <a:off x="4834800" y="6345360"/>
            <a:ext cx="3686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ODC,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World Drug Report 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4"/>
          <p:cNvSpPr/>
          <p:nvPr/>
        </p:nvSpPr>
        <p:spPr>
          <a:xfrm>
            <a:off x="152280" y="152280"/>
            <a:ext cx="8610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rbel"/>
              </a:rPr>
              <a:t>Consumo de cocaína en los últimos 12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stimaciones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12 Tabla" descr=""/>
          <p:cNvPicPr/>
          <p:nvPr/>
        </p:nvPicPr>
        <p:blipFill>
          <a:blip r:embed="rId1"/>
          <a:stretch/>
        </p:blipFill>
        <p:spPr>
          <a:xfrm>
            <a:off x="0" y="1133640"/>
            <a:ext cx="8467560" cy="50353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4"/>
          <p:cNvSpPr/>
          <p:nvPr/>
        </p:nvSpPr>
        <p:spPr>
          <a:xfrm>
            <a:off x="4784760" y="6232680"/>
            <a:ext cx="3686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Fuente: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UNODC,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World Drug Report 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2 CuadroTexto"/>
          <p:cNvSpPr/>
          <p:nvPr/>
        </p:nvSpPr>
        <p:spPr>
          <a:xfrm>
            <a:off x="0" y="204840"/>
            <a:ext cx="84582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estiman 17.3 millones de mexic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tre 12 y 65 años  fumadores ac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[12 millones de hombres y 5.2 millones de muje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revalencia más alta: Distrito Fed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prevalencias más bajas: región Centro Sur 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fumadores activos entre 12 y 65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ician a 20.4 años, consumen 6.5 cigarrillos 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2 CuadroTexto"/>
          <p:cNvSpPr/>
          <p:nvPr/>
        </p:nvSpPr>
        <p:spPr>
          <a:xfrm>
            <a:off x="0" y="76320"/>
            <a:ext cx="838188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5 millones de fumadores activos tienen adi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[1.2 millones hombres y 300 mil muje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7 millones de adolescentes son fumadores ac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8.4% tuvo el propósito de cesar e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rincipal  razón para abandonar su u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darse cuenta del daño a la salud (34.3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CuadroTexto"/>
          <p:cNvSpPr/>
          <p:nvPr/>
        </p:nvSpPr>
        <p:spPr>
          <a:xfrm>
            <a:off x="76320" y="139680"/>
            <a:ext cx="838188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ALCOH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0.9 millones de mexicanos han usado el último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25.1 millones el último 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.9 millones tienen dependencia a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consumo de altas cantidades por oca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el patrón de consumo más repor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3.6% de adultos entre 18 y 34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n tenido al menos un episodio de alto cons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2 CuadroTexto"/>
          <p:cNvSpPr/>
          <p:nvPr/>
        </p:nvSpPr>
        <p:spPr>
          <a:xfrm>
            <a:off x="76320" y="504720"/>
            <a:ext cx="838188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ALCOH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cerveza es la bebida de prefere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en segundo lugar desti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a edad de inicio son 17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en población entre 12 y 6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a región Centro tiene los índices de uso más al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os más bajos: región Nororiental, Centro Sur 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2 CuadroTexto"/>
          <p:cNvSpPr/>
          <p:nvPr/>
        </p:nvSpPr>
        <p:spPr>
          <a:xfrm>
            <a:off x="0" y="466560"/>
            <a:ext cx="83818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I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6.2 millones de personas han usado algun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 droga ilíc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.7 millones han usado sustancias ilíc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ariguana y cocaína son las más us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1 millones han usado drogas médicas sin prescripción. Las de mayor uso: tranquiliz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2 CuadroTexto"/>
          <p:cNvSpPr/>
          <p:nvPr/>
        </p:nvSpPr>
        <p:spPr>
          <a:xfrm>
            <a:off x="76320" y="379440"/>
            <a:ext cx="83055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Í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mitad de los usuarios iniciaron el cons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tes de los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razón es de 4.1 hombres por cad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oblación con mayor consumo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tre 18 y 34 años de eda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2 CuadroTexto"/>
          <p:cNvSpPr/>
          <p:nvPr/>
        </p:nvSpPr>
        <p:spPr>
          <a:xfrm>
            <a:off x="76320" y="331920"/>
            <a:ext cx="8381880" cy="82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Í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más de 550 mil personas dependientes de drogas que requieren trat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lo 137 mil personas  lo han recib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de cada 5 person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35.0% tratamiento completo con un profesion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22.1% tratamiento parcial con un profesion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14.9% grupos de ayuda mut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24000" y="1052280"/>
            <a:ext cx="8578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54061"/>
                </a:solidFill>
                <a:latin typeface="Arial"/>
              </a:rPr>
              <a:t>Centros de Integración Juvenil A.C</a:t>
            </a:r>
            <a:r>
              <a:rPr b="1" lang="es-MX" sz="2600" spc="-1" strike="noStrike">
                <a:solidFill>
                  <a:srgbClr val="254061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54061"/>
                </a:solidFill>
                <a:latin typeface="Arial"/>
              </a:rPr>
              <a:t>Sistema de Información Epidemiológica del Consumo de Drogas SIEC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540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54061"/>
                </a:solidFill>
                <a:latin typeface="Arial"/>
              </a:rPr>
              <a:t>Recupera datos de 32 entidades federativa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54061"/>
                </a:solidFill>
                <a:latin typeface="Arial"/>
              </a:rPr>
              <a:t>Censo con pacientes que acuden por primera vez a sus unidades de aten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54061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-360" y="2590920"/>
            <a:ext cx="8458200" cy="2133360"/>
          </a:xfrm>
          <a:prstGeom prst="rect">
            <a:avLst/>
          </a:prstGeom>
          <a:solidFill>
            <a:srgbClr val="a89d7f"/>
          </a:solidFill>
          <a:ln w="0">
            <a:noFill/>
          </a:ln>
        </p:spPr>
        <p:txBody>
          <a:bodyPr anchor="t">
            <a:normAutofit fontScale="19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  </a:t>
            </a: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USO DE TABACO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Consumo de Tabac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l consumo de tabaco y la exposición a su humo son la primera causa de muerte prevenible en el mund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Poco más de 1000 millones de personas fuman tabaco en el mundo (WHO, 201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s factor de riesgo para 6 de las 8 principales causas de mortalidad en el mun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58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</a:rPr>
              <a:t>CARACTERÍSTICAS SOCIODEMOGRÁFICAS</a:t>
            </a:r>
            <a:br>
              <a:rPr sz="2400"/>
            </a:br>
            <a:r>
              <a:rPr b="0" lang="es-MX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DE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Object 225" descr=""/>
          <p:cNvPicPr/>
          <p:nvPr/>
        </p:nvPicPr>
        <p:blipFill>
          <a:blip r:embed="rId1"/>
          <a:stretch/>
        </p:blipFill>
        <p:spPr>
          <a:xfrm>
            <a:off x="0" y="1160640"/>
            <a:ext cx="5065560" cy="3876480"/>
          </a:xfrm>
          <a:prstGeom prst="rect">
            <a:avLst/>
          </a:prstGeom>
          <a:ln w="0">
            <a:noFill/>
          </a:ln>
        </p:spPr>
      </p:pic>
      <p:grpSp>
        <p:nvGrpSpPr>
          <p:cNvPr id="634" name="27 Grupo"/>
          <p:cNvGrpSpPr/>
          <p:nvPr/>
        </p:nvGrpSpPr>
        <p:grpSpPr>
          <a:xfrm>
            <a:off x="4967280" y="3500280"/>
            <a:ext cx="3849840" cy="2857680"/>
            <a:chOff x="4967280" y="3500280"/>
            <a:chExt cx="3849840" cy="2857680"/>
          </a:xfrm>
        </p:grpSpPr>
        <p:sp>
          <p:nvSpPr>
            <p:cNvPr id="635" name="Text Box 40"/>
            <p:cNvSpPr/>
            <p:nvPr/>
          </p:nvSpPr>
          <p:spPr>
            <a:xfrm>
              <a:off x="4967280" y="4607280"/>
              <a:ext cx="2169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Edad de ingreso a trat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(23.3 añ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Group 47" descr=""/>
            <p:cNvPicPr/>
            <p:nvPr/>
          </p:nvPicPr>
          <p:blipFill>
            <a:blip r:embed="rId2"/>
            <a:stretch/>
          </p:blipFill>
          <p:spPr>
            <a:xfrm>
              <a:off x="7047000" y="3500280"/>
              <a:ext cx="389880" cy="122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Group 51" descr=""/>
            <p:cNvPicPr/>
            <p:nvPr/>
          </p:nvPicPr>
          <p:blipFill>
            <a:blip r:embed="rId3"/>
            <a:stretch/>
          </p:blipFill>
          <p:spPr>
            <a:xfrm>
              <a:off x="7047000" y="5264640"/>
              <a:ext cx="43272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 Box 40"/>
            <p:cNvSpPr/>
            <p:nvPr/>
          </p:nvSpPr>
          <p:spPr>
            <a:xfrm>
              <a:off x="7371000" y="3807720"/>
              <a:ext cx="144612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23.7 </a:t>
              </a:r>
              <a:r>
                <a:rPr b="1" lang="es-MX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21.3 </a:t>
              </a:r>
              <a:r>
                <a:rPr b="1" lang="es-MX" sz="1800" spc="-1" strike="noStrike">
                  <a:solidFill>
                    <a:srgbClr val="002060"/>
                  </a:solidFill>
                  <a:latin typeface="Calibri"/>
                  <a:ea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Object 448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4140000" cy="4627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86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17375e"/>
                </a:solidFill>
                <a:latin typeface="Calibri"/>
              </a:rPr>
              <a:t>CARACTERÍSTICAS SOCIODEMOGRÁFICAS</a:t>
            </a:r>
            <a:br>
              <a:rPr sz="2600"/>
            </a:b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 SEGUNDO SEMESTRE DE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Object 449" descr=""/>
          <p:cNvPicPr/>
          <p:nvPr/>
        </p:nvPicPr>
        <p:blipFill>
          <a:blip r:embed="rId2"/>
          <a:stretch/>
        </p:blipFill>
        <p:spPr>
          <a:xfrm>
            <a:off x="4737240" y="1506600"/>
            <a:ext cx="414000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7758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17375e"/>
                </a:solidFill>
                <a:latin typeface="Calibri"/>
              </a:rPr>
              <a:t>CARACTERÍSTICAS SOCIODEMOGRÁFICAS</a:t>
            </a:r>
            <a:br>
              <a:rPr sz="2600"/>
            </a:br>
            <a:r>
              <a:rPr b="0" lang="es-MX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DE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Object 3" descr=""/>
          <p:cNvPicPr/>
          <p:nvPr/>
        </p:nvPicPr>
        <p:blipFill>
          <a:blip r:embed="rId1"/>
          <a:stretch/>
        </p:blipFill>
        <p:spPr>
          <a:xfrm>
            <a:off x="638280" y="3462480"/>
            <a:ext cx="7867440" cy="3136680"/>
          </a:xfrm>
          <a:prstGeom prst="rect">
            <a:avLst/>
          </a:prstGeom>
          <a:ln w="0">
            <a:noFill/>
          </a:ln>
        </p:spPr>
      </p:pic>
      <p:pic>
        <p:nvPicPr>
          <p:cNvPr id="644" name="Object 225" descr=""/>
          <p:cNvPicPr/>
          <p:nvPr/>
        </p:nvPicPr>
        <p:blipFill>
          <a:blip r:embed="rId2"/>
          <a:stretch/>
        </p:blipFill>
        <p:spPr>
          <a:xfrm>
            <a:off x="1285920" y="1000080"/>
            <a:ext cx="7224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17375e"/>
                </a:solidFill>
                <a:latin typeface="Calibri"/>
              </a:rPr>
              <a:t>FACTORES ASOCIADOS A LA DEMANDA DE TRATAMIENTO</a:t>
            </a:r>
            <a:br>
              <a:rPr sz="2600"/>
            </a:br>
            <a:r>
              <a:rPr b="0" lang="es-MX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DE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Object 3" descr=""/>
          <p:cNvPicPr/>
          <p:nvPr/>
        </p:nvPicPr>
        <p:blipFill>
          <a:blip r:embed="rId1"/>
          <a:stretch/>
        </p:blipFill>
        <p:spPr>
          <a:xfrm>
            <a:off x="901800" y="3462480"/>
            <a:ext cx="7340400" cy="33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7" name="Object 225"/>
          <p:cNvGraphicFramePr/>
          <p:nvPr/>
        </p:nvGraphicFramePr>
        <p:xfrm>
          <a:off x="1452600" y="907920"/>
          <a:ext cx="6234120" cy="2671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8" name="Object 2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907920"/>
                    <a:ext cx="6234120" cy="26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Object 225"/>
          <p:cNvGraphicFramePr/>
          <p:nvPr/>
        </p:nvGraphicFramePr>
        <p:xfrm>
          <a:off x="905040" y="1258920"/>
          <a:ext cx="7333920" cy="49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0" name="Object 2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258920"/>
                    <a:ext cx="733392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</a:rPr>
              <a:t>FACTORES ASOCIADOS A LA DEMANDA DE TRATAMIENTO</a:t>
            </a:r>
            <a:br>
              <a:rPr sz="2400"/>
            </a:br>
            <a:r>
              <a:rPr b="0" lang="es-MX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400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</a:rPr>
              <a:t>INICIO DEL CONSUMO DE DROGAS</a:t>
            </a:r>
            <a:br>
              <a:rPr sz="2400"/>
            </a:b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85840" y="2278080"/>
          <a:ext cx="4000320" cy="3332160"/>
        </p:xfrm>
        <a:graphic>
          <a:graphicData uri="http://schemas.openxmlformats.org/drawingml/2006/table">
            <a:tbl>
              <a:tblPr/>
              <a:tblGrid>
                <a:gridCol w="600120"/>
                <a:gridCol w="849240"/>
                <a:gridCol w="850680"/>
                <a:gridCol w="849600"/>
                <a:gridCol w="850680"/>
              </a:tblGrid>
              <a:tr h="525600"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Tab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Alcoh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Drogas ilegal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 gridSpan="3"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Promedio en añ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2"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  inic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p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183457"/>
                        </a:gs>
                        <a:gs pos="100000">
                          <a:srgbClr val="305f99"/>
                        </a:gs>
                      </a:gsLst>
                      <a:lin ang="5400000"/>
                    </a:gradFill>
                  </a:tcPr>
                </a:tc>
              </a:tr>
              <a:tr h="627120">
                <a:tc rowSpan="2"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 w="13680">
                      <a:solidFill>
                        <a:srgbClr val="215968"/>
                      </a:solidFill>
                    </a:lnB>
                    <a:noFill/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 inic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215968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p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122040" rIns="12204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2040" marR="122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215968"/>
                      </a:solidFill>
                    </a:lnB>
                    <a:gradFill rotWithShape="0">
                      <a:gsLst>
                        <a:gs pos="0">
                          <a:srgbClr val="537e25"/>
                        </a:gs>
                        <a:gs pos="100000">
                          <a:srgbClr val="92da46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654" name="Text Box 40"/>
          <p:cNvSpPr/>
          <p:nvPr/>
        </p:nvSpPr>
        <p:spPr>
          <a:xfrm>
            <a:off x="285840" y="1023840"/>
            <a:ext cx="40003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2060"/>
                </a:solidFill>
                <a:latin typeface="Calibri"/>
                <a:ea typeface="Arial"/>
              </a:rPr>
              <a:t>Edad de inicio del consumo  y tiempo transcurrido para acudir a tratamiento en C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oup 4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414360" cy="1060560"/>
          </a:xfrm>
          <a:prstGeom prst="rect">
            <a:avLst/>
          </a:prstGeom>
          <a:ln w="0">
            <a:noFill/>
          </a:ln>
        </p:spPr>
      </p:pic>
      <p:pic>
        <p:nvPicPr>
          <p:cNvPr id="656" name="Group 51" descr=""/>
          <p:cNvPicPr/>
          <p:nvPr/>
        </p:nvPicPr>
        <p:blipFill>
          <a:blip r:embed="rId2"/>
          <a:stretch/>
        </p:blipFill>
        <p:spPr>
          <a:xfrm>
            <a:off x="324000" y="4498920"/>
            <a:ext cx="461880" cy="951120"/>
          </a:xfrm>
          <a:prstGeom prst="rect">
            <a:avLst/>
          </a:prstGeom>
          <a:ln w="0">
            <a:noFill/>
          </a:ln>
        </p:spPr>
      </p:pic>
      <p:pic>
        <p:nvPicPr>
          <p:cNvPr id="657" name="Object 26" descr=""/>
          <p:cNvPicPr/>
          <p:nvPr/>
        </p:nvPicPr>
        <p:blipFill>
          <a:blip r:embed="rId3"/>
          <a:stretch/>
        </p:blipFill>
        <p:spPr>
          <a:xfrm>
            <a:off x="4325760" y="969840"/>
            <a:ext cx="4865760" cy="57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8" name="Object 225"/>
          <p:cNvGraphicFramePr/>
          <p:nvPr/>
        </p:nvGraphicFramePr>
        <p:xfrm>
          <a:off x="142920" y="110952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9" name="Object 2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10952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600" spc="-1" strike="noStrike">
                <a:solidFill>
                  <a:srgbClr val="17375e"/>
                </a:solidFill>
                <a:latin typeface="Calibri"/>
              </a:rPr>
              <a:t>PATRÓN DE CONSUMO</a:t>
            </a:r>
            <a:br>
              <a:rPr sz="2600"/>
            </a:b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DE 2011 (N=11,95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8 Título"/>
          <p:cNvSpPr/>
          <p:nvPr/>
        </p:nvSpPr>
        <p:spPr>
          <a:xfrm>
            <a:off x="285840" y="0"/>
            <a:ext cx="800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600" spc="-1" strike="noStrike">
                <a:solidFill>
                  <a:srgbClr val="17375e"/>
                </a:solidFill>
                <a:latin typeface="Calibri"/>
              </a:rPr>
              <a:t>PATRÓN DE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SEGUNDO SEMESTRE DE 2011 (N=11,95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Object 225"/>
          <p:cNvGraphicFramePr/>
          <p:nvPr/>
        </p:nvGraphicFramePr>
        <p:xfrm>
          <a:off x="214200" y="928800"/>
          <a:ext cx="8712360" cy="538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3" name="Object 2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928800"/>
                    <a:ext cx="8712360" cy="53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8 Título"/>
          <p:cNvSpPr/>
          <p:nvPr/>
        </p:nvSpPr>
        <p:spPr>
          <a:xfrm>
            <a:off x="285840" y="0"/>
            <a:ext cx="8001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7375e"/>
                </a:solidFill>
                <a:latin typeface="Calibri"/>
              </a:rPr>
              <a:t>Comparativo uso alguna vez en la vida y droga de mayor impacto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s-MX" sz="2200" spc="-1" strike="noStrike">
                <a:solidFill>
                  <a:srgbClr val="17375e"/>
                </a:solidFill>
                <a:latin typeface="Calibri"/>
              </a:rPr>
              <a:t>2° semestre 2011 </a:t>
            </a:r>
            <a:r>
              <a:rPr b="1" lang="es-MX" sz="2000" spc="-1" strike="noStrike">
                <a:solidFill>
                  <a:srgbClr val="17375e"/>
                </a:solidFill>
                <a:latin typeface="Calibri"/>
              </a:rPr>
              <a:t>(N=11,9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101520" y="1168560"/>
            <a:ext cx="8842320" cy="5082840"/>
          </a:xfrm>
          <a:prstGeom prst="rect">
            <a:avLst/>
          </a:prstGeom>
          <a:ln w="0">
            <a:noFill/>
          </a:ln>
        </p:spPr>
      </p:pic>
      <p:grpSp>
        <p:nvGrpSpPr>
          <p:cNvPr id="666" name="4 Grupo"/>
          <p:cNvGrpSpPr/>
          <p:nvPr/>
        </p:nvGrpSpPr>
        <p:grpSpPr>
          <a:xfrm>
            <a:off x="5137200" y="1268280"/>
            <a:ext cx="2819520" cy="2448000"/>
            <a:chOff x="5137200" y="1268280"/>
            <a:chExt cx="2819520" cy="2448000"/>
          </a:xfrm>
        </p:grpSpPr>
        <p:sp>
          <p:nvSpPr>
            <p:cNvPr id="667" name="Rectangle 5"/>
            <p:cNvSpPr/>
            <p:nvPr/>
          </p:nvSpPr>
          <p:spPr>
            <a:xfrm>
              <a:off x="5137200" y="1268280"/>
              <a:ext cx="2819520" cy="244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85680"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Razón de cas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Tabaco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1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Alcohol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  9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Cannabis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  2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Inhalables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  2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Cocaína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  7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600" spc="-1" strike="noStrike">
                  <a:solidFill>
                    <a:srgbClr val="000000"/>
                  </a:solidFill>
                  <a:latin typeface="Calibri"/>
                </a:rPr>
                <a:t>Crack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1 :   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algn="just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1343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6 Conector recto"/>
            <p:cNvSpPr/>
            <p:nvPr/>
          </p:nvSpPr>
          <p:spPr>
            <a:xfrm>
              <a:off x="5255280" y="1803960"/>
              <a:ext cx="259668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Object 225"/>
          <p:cNvGraphicFramePr/>
          <p:nvPr/>
        </p:nvGraphicFramePr>
        <p:xfrm>
          <a:off x="142920" y="110952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0" name="Object 2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10952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400" spc="-1" strike="noStrike">
                <a:solidFill>
                  <a:srgbClr val="17375e"/>
                </a:solidFill>
                <a:latin typeface="Calibri"/>
              </a:rPr>
              <a:t>PATRÓN DE CONSUMO</a:t>
            </a:r>
            <a:br>
              <a:rPr sz="2400"/>
            </a:br>
            <a:r>
              <a:rPr b="1" lang="es-MX" sz="2400" spc="-1" strike="noStrike">
                <a:solidFill>
                  <a:srgbClr val="17375e"/>
                </a:solidFill>
                <a:latin typeface="Calibri"/>
              </a:rPr>
              <a:t>SEGUNDO SEMESTRE DE 2011 (N=11,95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1 Rectángulo"/>
          <p:cNvSpPr/>
          <p:nvPr/>
        </p:nvSpPr>
        <p:spPr>
          <a:xfrm>
            <a:off x="468360" y="1757520"/>
            <a:ext cx="7775640" cy="36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Promedio de drogas ilícitas consumidas alguna vez en la vida: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2.5 susta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Poliusuarios: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61.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Uso de dos o más sustancias utilizadas en un mismo día durante el último año: 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53.1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Uso diario de drogas ilícitas durante el último mes: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38.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782640"/>
            <a:ext cx="84582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algn="ctr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800000"/>
                </a:solidFill>
                <a:uFillTx/>
                <a:latin typeface="Arial"/>
              </a:rPr>
              <a:t>Consumo de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En el mundo es la primera causa de muerte preven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Cerca de 6 millones de personas mueren al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por causas relacionadas al humo de 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La mayoría de esas muertes ocurren en países pobres y de ingresos 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18"/>
          <p:cNvSpPr/>
          <p:nvPr/>
        </p:nvSpPr>
        <p:spPr>
          <a:xfrm>
            <a:off x="228600" y="6227640"/>
            <a:ext cx="8229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MS, Report on the Global Tobacco Epidemic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90"/>
          <p:cNvGraphicFramePr/>
          <p:nvPr/>
        </p:nvGraphicFramePr>
        <p:xfrm>
          <a:off x="233280" y="106668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4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06668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1 Rectángulo"/>
          <p:cNvSpPr/>
          <p:nvPr/>
        </p:nvSpPr>
        <p:spPr>
          <a:xfrm>
            <a:off x="468360" y="1503360"/>
            <a:ext cx="82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2 Rectángulo"/>
          <p:cNvSpPr/>
          <p:nvPr/>
        </p:nvSpPr>
        <p:spPr>
          <a:xfrm>
            <a:off x="1295280" y="2766960"/>
            <a:ext cx="647712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800000"/>
                </a:solidFill>
                <a:latin typeface="Calibri"/>
              </a:rPr>
              <a:t>CENTRO DE INTEGRACIÓN JUVENIL  MÉR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600" spc="-1" strike="noStrike">
                <a:solidFill>
                  <a:srgbClr val="006600"/>
                </a:solidFill>
                <a:latin typeface="Arial"/>
                <a:ea typeface="Arial"/>
              </a:rPr>
              <a:t>PRIMER SEMESTRE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Object 31"/>
          <p:cNvGraphicFramePr/>
          <p:nvPr/>
        </p:nvGraphicFramePr>
        <p:xfrm>
          <a:off x="142920" y="106668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8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6668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1 Rectángulo"/>
          <p:cNvSpPr/>
          <p:nvPr/>
        </p:nvSpPr>
        <p:spPr>
          <a:xfrm>
            <a:off x="468360" y="1503360"/>
            <a:ext cx="8218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.5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hombres por cada muj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5%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de pacientes entre 15 y 19 años; 22.1% entre 10 y 14 años, 14.8% entre 20 y 24 añ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84.6</a:t>
            </a:r>
            <a:r>
              <a:rPr b="1" lang="es-MX" sz="2000" spc="-1" strike="noStrike">
                <a:solidFill>
                  <a:srgbClr val="10253f"/>
                </a:solidFill>
                <a:latin typeface="Arial"/>
                <a:ea typeface="Arial"/>
              </a:rPr>
              <a:t>% 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sol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scolaridad: secundaria 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7.0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y bachillerato (23.5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Ocupación: estudia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2.3%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), trabaja (22.1%), desempl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    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(22.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Object 78"/>
          <p:cNvGraphicFramePr/>
          <p:nvPr/>
        </p:nvGraphicFramePr>
        <p:xfrm>
          <a:off x="142920" y="106668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2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6668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1 Rectángulo"/>
          <p:cNvSpPr/>
          <p:nvPr/>
        </p:nvSpPr>
        <p:spPr>
          <a:xfrm>
            <a:off x="468360" y="1503360"/>
            <a:ext cx="821844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dad de inicio del uso de sustanci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Tabaco: 10-14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6.3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15-19 años (22.1%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Alcohol: 10-14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38.9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15-19 años  (36.2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Drogas ilícitas: 10-14 años (38.3%) 15-19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0.9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 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Tipo de consu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xperimental       11.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Ocasional            28.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Funcional            47.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Disfuncional          9.4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88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1 Rectángulo"/>
          <p:cNvSpPr/>
          <p:nvPr/>
        </p:nvSpPr>
        <p:spPr>
          <a:xfrm>
            <a:off x="696960" y="1612800"/>
            <a:ext cx="8218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de uso alguna vez en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1981080" y="2298600"/>
          <a:ext cx="4953240" cy="3413160"/>
        </p:xfrm>
        <a:graphic>
          <a:graphicData uri="http://schemas.openxmlformats.org/drawingml/2006/table">
            <a:tbl>
              <a:tblPr/>
              <a:tblGrid>
                <a:gridCol w="2667240"/>
                <a:gridCol w="22860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6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37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6.2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Éxtasi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9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Alucinógeno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0" name="Object 82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1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1 Rectángulo"/>
          <p:cNvSpPr/>
          <p:nvPr/>
        </p:nvSpPr>
        <p:spPr>
          <a:xfrm>
            <a:off x="696960" y="1612800"/>
            <a:ext cx="82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ilícitas de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286000" y="2298600"/>
          <a:ext cx="4876920" cy="3413160"/>
        </p:xfrm>
        <a:graphic>
          <a:graphicData uri="http://schemas.openxmlformats.org/drawingml/2006/table">
            <a:tbl>
              <a:tblPr/>
              <a:tblGrid>
                <a:gridCol w="2625840"/>
                <a:gridCol w="225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1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1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4.0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Éxtasi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0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Alucinógeno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5" name="Object 62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6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1 Rectángulo"/>
          <p:cNvSpPr/>
          <p:nvPr/>
        </p:nvSpPr>
        <p:spPr>
          <a:xfrm>
            <a:off x="696960" y="1612800"/>
            <a:ext cx="82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de mayor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2286000" y="2298600"/>
          <a:ext cx="4876920" cy="3413160"/>
        </p:xfrm>
        <a:graphic>
          <a:graphicData uri="http://schemas.openxmlformats.org/drawingml/2006/table">
            <a:tbl>
              <a:tblPr/>
              <a:tblGrid>
                <a:gridCol w="2625840"/>
                <a:gridCol w="225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32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4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0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ba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coho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782640"/>
            <a:ext cx="84582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algn="ctr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800000"/>
                </a:solidFill>
                <a:uFillTx/>
                <a:latin typeface="Arial"/>
              </a:rPr>
              <a:t>Consumo de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En América Latina mueren más de 400 personas cada día por causa del 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Se estiman 150 mil muertes anuales atribuidas al uso de este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La OMS estima para México una prevalencia to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en adultos de 16% y 8% de fumadores diari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(datos 2009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18"/>
          <p:cNvSpPr/>
          <p:nvPr/>
        </p:nvSpPr>
        <p:spPr>
          <a:xfrm>
            <a:off x="228600" y="6227640"/>
            <a:ext cx="8229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MS, Report on the Global Tobacco Epidemic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-360" y="2590920"/>
            <a:ext cx="8458200" cy="2133360"/>
          </a:xfrm>
          <a:prstGeom prst="rect">
            <a:avLst/>
          </a:prstGeom>
          <a:solidFill>
            <a:srgbClr val="a89d7f"/>
          </a:solidFill>
          <a:ln w="0">
            <a:noFill/>
          </a:ln>
        </p:spPr>
        <p:txBody>
          <a:bodyPr anchor="t">
            <a:normAutofit fontScale="19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  </a:t>
            </a: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CONSUMO DE ALCOHOL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Consumo de Tabac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l consumo de tabaco y la exposición a su humo son la primera causa de muerte prevenible en el mund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Poco más de 1000 millones de personas fuman tabaco en el mundo (WHO, 201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s factor de riesgo para 6 de las 8 principales causas de mortalidad en el mun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477720"/>
            <a:ext cx="84582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algn="ctr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 u="sng">
                <a:solidFill>
                  <a:srgbClr val="800000"/>
                </a:solidFill>
                <a:uFillTx/>
                <a:latin typeface="Arial"/>
              </a:rPr>
              <a:t>Consumo de Alcoh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Consumo per cápita mundi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población de 15 años y más:  6.13 litros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2.5 millones de muertes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        </a:t>
            </a: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principal causa de muerte en hombres de 15 a 60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Altas tasas de enfermedad y discapacidad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Latinoamérica y M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  <a:ea typeface="Arial"/>
              </a:rPr>
              <a:t>Alta prevalencia de patrón de consumo riesgoso en Méx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80">
              <a:lnSpc>
                <a:spcPct val="100000"/>
              </a:lnSpc>
              <a:spcAft>
                <a:spcPts val="1199"/>
              </a:spcAft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918"/>
          <p:cNvSpPr/>
          <p:nvPr/>
        </p:nvSpPr>
        <p:spPr>
          <a:xfrm>
            <a:off x="228600" y="6151680"/>
            <a:ext cx="822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M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Global Status Report on Alcohol and Health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NA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918"/>
          <p:cNvSpPr/>
          <p:nvPr/>
        </p:nvSpPr>
        <p:spPr>
          <a:xfrm>
            <a:off x="152280" y="5943600"/>
            <a:ext cx="8229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M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Global Status Report on Alcohol and Health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-6480" y="1023840"/>
            <a:ext cx="8925120" cy="5072040"/>
          </a:xfrm>
          <a:prstGeom prst="rect">
            <a:avLst/>
          </a:prstGeom>
          <a:ln w="0">
            <a:noFill/>
          </a:ln>
        </p:spPr>
      </p:pic>
      <p:sp>
        <p:nvSpPr>
          <p:cNvPr id="612" name="6 Rectángulo"/>
          <p:cNvSpPr/>
          <p:nvPr/>
        </p:nvSpPr>
        <p:spPr>
          <a:xfrm>
            <a:off x="76320" y="392040"/>
            <a:ext cx="84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Patrón de consumo de alcohol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-360" y="2590920"/>
            <a:ext cx="8458200" cy="2133360"/>
          </a:xfrm>
          <a:prstGeom prst="rect">
            <a:avLst/>
          </a:prstGeom>
          <a:solidFill>
            <a:srgbClr val="a89d7f"/>
          </a:solidFill>
          <a:ln w="0">
            <a:noFill/>
          </a:ln>
        </p:spPr>
        <p:txBody>
          <a:bodyPr anchor="t">
            <a:normAutofit fontScale="19000"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  </a:t>
            </a:r>
            <a:r>
              <a:rPr b="1" lang="es-MX" sz="3600" spc="-1" strike="noStrike">
                <a:solidFill>
                  <a:srgbClr val="2f2b20"/>
                </a:solidFill>
                <a:latin typeface="Arial"/>
                <a:ea typeface="Arial"/>
              </a:rPr>
              <a:t>USO DE DROGAS ILÍCITA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Consumo de Tabac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l consumo de tabaco y la exposición a su humo son la primera causa de muerte prevenible en el mundo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Poco más de 1000 millones de personas fuman tabaco en el mundo (WHO, 2011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2b20"/>
                </a:solidFill>
                <a:latin typeface="Calibri"/>
              </a:rPr>
              <a:t>Es factor de riesgo para 6 de las 8 principales causas de mortalidad en el mundo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2 Rectángulo"/>
          <p:cNvGrpSpPr/>
          <p:nvPr/>
        </p:nvGrpSpPr>
        <p:grpSpPr>
          <a:xfrm>
            <a:off x="139680" y="-12600"/>
            <a:ext cx="4067280" cy="6657840"/>
            <a:chOff x="139680" y="-12600"/>
            <a:chExt cx="4067280" cy="6657840"/>
          </a:xfrm>
        </p:grpSpPr>
        <p:pic>
          <p:nvPicPr>
            <p:cNvPr id="615" name="2 Rectángulo" descr=""/>
            <p:cNvPicPr/>
            <p:nvPr/>
          </p:nvPicPr>
          <p:blipFill>
            <a:blip r:embed="rId1"/>
            <a:stretch/>
          </p:blipFill>
          <p:spPr>
            <a:xfrm>
              <a:off x="139680" y="-12600"/>
              <a:ext cx="4067280" cy="665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152280" y="0"/>
              <a:ext cx="4038840" cy="66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4"/>
          <p:cNvSpPr/>
          <p:nvPr/>
        </p:nvSpPr>
        <p:spPr>
          <a:xfrm>
            <a:off x="152280" y="533520"/>
            <a:ext cx="8382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800000"/>
                </a:solidFill>
                <a:uFillTx/>
                <a:latin typeface="Arial"/>
              </a:rPr>
              <a:t>Uso de drogas ilícitas en 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Arial"/>
              </a:rPr>
              <a:t>2009 /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210 millones de usuarios en los últimos 12 m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.3%-6.1% de la población entre 15 y 64 año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ca de 100 millones son usuari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uso en los últimos 30 días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suarios problemáticos (usuarios regulares / dependientes y UD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5 - 39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ente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NODC,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World Drug Repor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1:01:39Z</dcterms:created>
  <dc:creator>Regnar Kristensen</dc:creator>
  <dc:description/>
  <dc:language>en-US</dc:language>
  <cp:lastModifiedBy>HOME</cp:lastModifiedBy>
  <dcterms:modified xsi:type="dcterms:W3CDTF">2015-10-27T04:23:38Z</dcterms:modified>
  <cp:revision>861</cp:revision>
  <dc:subject/>
  <dc:title>Evaluación del Programa Piloto de Estrategias de Prevención Escolar   David Bruno Diaz Negrete Sara Elisa Gracia Gutiérrez de Velasco  Centros de Integración Juvenil A.C. Dirección de Investigación y Enseñanza Subdirección de Investigación  San José, Costa Rica, febrero de 2005</dc:title>
</cp:coreProperties>
</file>