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99FE-B770-4C46-9798-91C7A8C9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15F5-6221-4791-803F-B4E35EFB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7A95-F484-4459-BF82-194CAB9C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9A8C-4DD9-401A-AA98-B3FEEF8C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17C2-80CE-415A-8C15-FB50A469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79C0-E992-4300-90BF-D464FBFF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83F7-39B8-4007-96A0-BAC09273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EEC4-034A-456F-96E1-76EFDE39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B2D3-54E5-40EF-95E0-DC0264DB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61B4-2FA0-4409-A535-8DB2A478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F987-8D8B-414D-8A3D-BBB30ADB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50FF-89AE-4264-B2D3-7860477F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955B-2FAA-44A2-BAE2-FE444CDA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4BCA-3965-420C-A4EE-4623A095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3EF2-A426-4EE4-ABA2-3F190D32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4F53-1D8B-42F1-8A26-8DD59024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BA2C-C9C0-43FC-9A87-F08C53B9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1D777-1705-4B82-A63A-85E8E5FC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1CB32-B29F-4AE3-8A16-29446D26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E2A14-43BB-4AE4-BBC0-D7E57CB7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71073-F42C-423D-BB8C-D45270D8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B98C8-20E3-4086-B05D-B73FC69E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4F6B-6848-4269-BFAC-DA45E321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6452A-0B70-44D5-A85F-F06B3CD1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9F7B1-BE15-48BF-BAAF-0D0A24E7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2DE53-1B99-4090-9D8C-62DF869B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255DA-8C75-4056-BCE4-15485F36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75D31-51B4-4C14-93F1-C15D3691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647F7-6324-4328-AD96-838A6026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9CB44-A430-4A61-A765-875B701C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0A4DB-5D77-4A78-9591-BBBD2BFB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0612A-2B67-4289-8A55-AFA94CCD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2FF96-E794-4088-A9B7-1D869DEB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90E1-DFFF-40BF-B8D3-0DCEB908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56653-48FA-4E78-9B23-3543F62C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0E97E-AA57-4A77-82D6-75E56E4D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FCABA-794C-477E-B1A9-FEED14E6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7D276-41A0-4E37-97ED-CCBF222E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BC8BC-AD4E-4D60-8471-0D017504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BCC13-8C75-441A-B26A-D13034B7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353F7-6123-4043-AE35-2515B24E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6F1BE-318A-4CE0-B065-A2614F84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38984-1E1F-4412-83EA-82B14D7E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6082E-2520-4BA8-9EA7-AB5C01DD6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0983-69E9-4916-A7C8-D56C2137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95B4A-2DF7-4C58-9F1F-99F9DB51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4123C-D5E0-4538-BEF7-417BA2CC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18080-FE19-4BEB-9D25-10D980F3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482DE-F6D5-4808-B3B8-36D6CE55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6415B-F653-430C-9D8B-5D5D1C27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3E475-3680-4449-AA6D-A2D07440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57236-3964-40E6-98C3-51D9651B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11D1C-48CB-4158-84C6-6A077015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3EA15-8E8D-4BC2-A2EB-A54BC624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3EC20-BA16-420E-94DB-E9D224E4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16A6-717B-4551-ABCC-F2A9FD7E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52ECA-0944-4D6A-A64A-3A75C35D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24F20-7643-4A1B-A077-805C5AA2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3A17F-789B-460F-AB02-BDFB8BF2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E7A2D-F254-428F-910A-01BDE696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0DB9C-6D62-4148-8627-C0819C47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E7697-E74A-4184-8911-866A7737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6CCC1-75B6-4020-A035-53CA85DF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9258A-C989-415D-9A9B-D4C34130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D6BE3-DFE0-4543-82B7-A908405F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8192A-35DE-4285-89E5-D6A8F261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C632-0AB2-40EC-88B9-44021594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8C313-F983-4C7A-B10B-B0651635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7E938-996F-4082-9BE6-B495A22B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E5973-F2E2-4B7A-A9FF-FD688D30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89C58-DD70-4DED-B444-DFC47F46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44596-20D7-4539-883A-C702C045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BF3A6-49F7-4F61-82D4-E46F4850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9361A-576D-47A9-B9C6-758BC7F0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59969-1945-4CB7-ACFB-C4056C02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E2D7C-D8F8-4391-BE39-D18CDF1D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9F138-422D-4E94-9BB4-0277DDF2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161B-6EDB-4ACF-BFDC-BEB54D24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A808E-EBC8-4FE3-8ABB-9F2C6153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C00CB-B12E-48F4-A333-FC06A24E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246F2-E806-4396-AE2F-B694704C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C4FB7-AD19-4289-B4C4-787CD965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2417D-6B64-4021-93EC-4E16FA38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7CCE-C72F-42B4-B674-B2CAB1EE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377F-93B3-429D-803C-F5FBA12498F4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951F-540D-4774-BF36-32BFDE051C7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5D1F-C79D-47CA-AA41-27B9636505DD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34F7-94F0-4E64-82A8-80D025E8D8DE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9982-627D-446E-858E-EE61C5F23F0B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7A9E-94C1-4C13-ABFD-ACE4EA681E6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DC5E-5399-42E8-9463-19325B7ECB9B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mailto:cijmerida@cij.gob.mx/" TargetMode="External"/><Relationship Id="rId4" Type="http://schemas.openxmlformats.org/officeDocument/2006/relationships/hyperlink" Target="mailto:cijmerida@cij.gob.mx/" TargetMode="External"/><Relationship Id="rId5" Type="http://schemas.openxmlformats.org/officeDocument/2006/relationships/hyperlink" Target="mailto:victor.roa@cij.gob.mx" TargetMode="External"/><Relationship Id="rId6" Type="http://schemas.openxmlformats.org/officeDocument/2006/relationships/hyperlink" Target="mailto:victor-roa2011@hotmail.com" TargetMode="External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66560" y="360000"/>
            <a:ext cx="6697800" cy="76500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572314"/>
                </a:solidFill>
                <a:latin typeface="Gill Sans MT"/>
              </a:rPr>
              <a:t>Centros de Integración Juvenil, A. C.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4640"/>
            <a:ext cx="7407000" cy="460872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320e04"/>
                </a:solidFill>
                <a:latin typeface="Gill Sans MT"/>
              </a:rPr>
              <a:t>Datos Epidemiológicos. Comparativo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320e04"/>
                </a:solidFill>
                <a:latin typeface="Gill Sans MT"/>
              </a:rPr>
              <a:t>Mérida, Yuc.  Febrero 2015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0" name="Picture 2" descr="Logo2-40aniv(9)"/>
          <p:cNvPicPr/>
          <p:nvPr/>
        </p:nvPicPr>
        <p:blipFill>
          <a:blip r:embed="rId1"/>
          <a:stretch/>
        </p:blipFill>
        <p:spPr>
          <a:xfrm>
            <a:off x="250920" y="333360"/>
            <a:ext cx="1655640" cy="914400"/>
          </a:xfrm>
          <a:prstGeom prst="rect">
            <a:avLst/>
          </a:prstGeom>
          <a:ln w="9360">
            <a:solidFill>
              <a:srgbClr val="62242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0" y="1267920"/>
            <a:ext cx="4284720" cy="2521080"/>
          </a:xfrm>
          <a:prstGeom prst="rect">
            <a:avLst/>
          </a:prstGeom>
          <a:solidFill>
            <a:srgbClr val="ffe39d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IJ Mérid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alle 55 # 535 x 64 y 66 Centr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Mérida, Yu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Tels. 923-32-87 y 923-08-4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Lunes a viernes (8:00 – 19:30 hrs.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427280" y="1052640"/>
            <a:ext cx="4506840" cy="27367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CIJ Yucatá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alle 181 # 420 x 187 Diag. y 161 Diag. (Periférico sur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Col. Nueva San José Teco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Tel. 5962828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Lunes a Viernes: 8:00 – 19:30 Hr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Kanasín, Yu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6" name="Picture 2" descr="C:\Documents and Settings\Lic.Victor\Mis documentos\Mis imágenes\mant-cijmerida 010.jpg"/>
          <p:cNvPicPr/>
          <p:nvPr/>
        </p:nvPicPr>
        <p:blipFill>
          <a:blip r:embed="rId1"/>
          <a:stretch/>
        </p:blipFill>
        <p:spPr>
          <a:xfrm>
            <a:off x="684360" y="3860640"/>
            <a:ext cx="3373200" cy="23576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9" descr="C:\Documents and Settings\Lic.Victor\Escritorio\fotosUHY13\IMG-20140225-WA0002.jpg"/>
          <p:cNvPicPr/>
          <p:nvPr/>
        </p:nvPicPr>
        <p:blipFill>
          <a:blip r:embed="rId2"/>
          <a:stretch/>
        </p:blipFill>
        <p:spPr>
          <a:xfrm>
            <a:off x="4932360" y="3860640"/>
            <a:ext cx="3600360" cy="2305080"/>
          </a:xfrm>
          <a:prstGeom prst="rect">
            <a:avLst/>
          </a:prstGeom>
          <a:ln w="0">
            <a:noFill/>
          </a:ln>
        </p:spPr>
      </p:pic>
      <p:sp>
        <p:nvSpPr>
          <p:cNvPr id="348" name="8 CuadroTexto"/>
          <p:cNvSpPr/>
          <p:nvPr/>
        </p:nvSpPr>
        <p:spPr>
          <a:xfrm>
            <a:off x="0" y="6453360"/>
            <a:ext cx="89647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637f26"/>
                </a:solidFill>
                <a:latin typeface="Arial"/>
              </a:rPr>
              <a:t>Correos: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 u="sng">
                <a:solidFill>
                  <a:srgbClr val="8dc765"/>
                </a:solidFill>
                <a:uFillTx/>
                <a:latin typeface="Comic Sans MS"/>
                <a:hlinkClick r:id="rId3"/>
              </a:rPr>
              <a:t>cijmerida@cij.gob.mx  </a:t>
            </a:r>
            <a:r>
              <a:rPr b="0" lang="es-MX" sz="1600" spc="-1" strike="noStrike" u="sng">
                <a:solidFill>
                  <a:srgbClr val="8dc765"/>
                </a:solidFill>
                <a:uFillTx/>
                <a:latin typeface="Comic Sans MS"/>
                <a:hlinkClick r:id="rId4"/>
              </a:rPr>
              <a:t>/</a:t>
            </a: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1600" spc="-1" strike="noStrike" u="sng">
                <a:solidFill>
                  <a:srgbClr val="8dc765"/>
                </a:solidFill>
                <a:uFillTx/>
                <a:latin typeface="Comic Sans MS"/>
                <a:hlinkClick r:id="rId5"/>
              </a:rPr>
              <a:t>victor.roa@cij.gob.mx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1600" spc="-1" strike="noStrike" u="sng">
                <a:solidFill>
                  <a:srgbClr val="8dc765"/>
                </a:solidFill>
                <a:uFillTx/>
                <a:latin typeface="Comic Sans MS"/>
                <a:hlinkClick r:id="rId6"/>
              </a:rPr>
              <a:t>victor-roa2011@hot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4" descr="C:\Documents and Settings\Lic.Victor\Mis documentos\Logos\LogoCIJ45Aniversario2014-3.jpg"/>
          <p:cNvPicPr/>
          <p:nvPr/>
        </p:nvPicPr>
        <p:blipFill>
          <a:blip r:embed="rId7"/>
          <a:stretch/>
        </p:blipFill>
        <p:spPr>
          <a:xfrm>
            <a:off x="395280" y="189000"/>
            <a:ext cx="2952720" cy="865080"/>
          </a:xfrm>
          <a:prstGeom prst="rect">
            <a:avLst/>
          </a:prstGeom>
          <a:ln w="9360">
            <a:solidFill>
              <a:srgbClr val="1c4853"/>
            </a:solidFill>
            <a:miter/>
          </a:ln>
        </p:spPr>
      </p:pic>
      <p:pic>
        <p:nvPicPr>
          <p:cNvPr id="350" name="Imagen 4" descr="C:\Users\Hemolab Server 3\Desktop\descarga.png"/>
          <p:cNvPicPr/>
          <p:nvPr/>
        </p:nvPicPr>
        <p:blipFill>
          <a:blip r:embed="rId8"/>
          <a:stretch/>
        </p:blipFill>
        <p:spPr>
          <a:xfrm>
            <a:off x="4211640" y="189000"/>
            <a:ext cx="2016000" cy="717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351" name="Picture 8" descr="logoL1"/>
          <p:cNvPicPr/>
          <p:nvPr/>
        </p:nvPicPr>
        <p:blipFill>
          <a:blip r:embed="rId9"/>
          <a:stretch/>
        </p:blipFill>
        <p:spPr>
          <a:xfrm>
            <a:off x="7451640" y="260280"/>
            <a:ext cx="758880" cy="66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842160" cy="86508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72314"/>
                </a:solidFill>
                <a:latin typeface="Gill Sans MT"/>
              </a:rPr>
              <a:t>Programa Nacional de Prevención del delito. 2014</a:t>
            </a:r>
            <a:br>
              <a:rPr sz="2000"/>
            </a:br>
            <a:r>
              <a:rPr b="1" lang="es-MX" sz="2000" spc="-1" strike="noStrike">
                <a:solidFill>
                  <a:srgbClr val="572314"/>
                </a:solidFill>
                <a:latin typeface="Gill Sans MT"/>
              </a:rPr>
              <a:t>Polígonos y Colonias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79280" y="1447920"/>
          <a:ext cx="8755200" cy="5190840"/>
        </p:xfrm>
        <a:graphic>
          <a:graphicData uri="http://schemas.openxmlformats.org/drawingml/2006/table">
            <a:tbl>
              <a:tblPr/>
              <a:tblGrid>
                <a:gridCol w="2241720"/>
                <a:gridCol w="2171520"/>
                <a:gridCol w="2170080"/>
                <a:gridCol w="2171880"/>
              </a:tblGrid>
              <a:tr h="3715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lígono 1. Colon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lígono 2. Colon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EROPUERTO (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EVA SAN JOSE TEC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PLIACIÓN LA HACIEN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NA VICA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RENACIMI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LE AGRICO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INCO COLONIAS SUR (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CEDES BARR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MILIANO ZAPATA SUR I (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 ANTONIO XLUCH 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ARÍA LUISA (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L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ILIANO ZAPATA SUR 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 ANTONIO XLUCH I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ITAR 42 S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LOS ORI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LAN DE AYALA SUR III (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 ARTURO XLU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LVADOR ALVARADO SUR (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ARTO GRANJ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N ANTONIO XLUCH (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 JOSE CAMPEST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EROPUER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 JOSE TEC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 ANTONIO XLUCH I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 JOSE TECOH S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 NICOLAS DEL S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N JOSÉ TECOH (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 LUIS SUR DZUNUNC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CILIO CH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TA RO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 LUIS DZUNUNCAN S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 PEDRO PALOME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CO COLON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APIO REND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A GUADALUPANA (2) </a:t>
                      </a:r>
                      <a:r>
                        <a:rPr b="1" lang="es-ES" sz="1100" spc="-1" strike="noStrike">
                          <a:solidFill>
                            <a:srgbClr val="922223"/>
                          </a:solidFill>
                          <a:latin typeface="Calibri"/>
                        </a:rPr>
                        <a:t>[ACTS. PREVS.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TA CRUZ PALOME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CO COLON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CENTE SOL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DE NOVIEMB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LE DOR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 S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LLA MAGNA DEL S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CO COLON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KULK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ZIL H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FLOR DEL S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pic>
        <p:nvPicPr>
          <p:cNvPr id="323" name="Picture 2" descr="Logo2-40aniv(9)"/>
          <p:cNvPicPr/>
          <p:nvPr/>
        </p:nvPicPr>
        <p:blipFill>
          <a:blip r:embed="rId1"/>
          <a:stretch/>
        </p:blipFill>
        <p:spPr>
          <a:xfrm>
            <a:off x="324000" y="260280"/>
            <a:ext cx="1655640" cy="914400"/>
          </a:xfrm>
          <a:prstGeom prst="rect">
            <a:avLst/>
          </a:prstGeom>
          <a:ln w="9360">
            <a:solidFill>
              <a:srgbClr val="62242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916000" y="189000"/>
            <a:ext cx="6018120" cy="5760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572314"/>
                </a:solidFill>
                <a:latin typeface="Gill Sans MT"/>
              </a:rPr>
              <a:t>Programa Nacional de Prevención del Delito. 2014</a:t>
            </a:r>
            <a:br>
              <a:rPr sz="1600"/>
            </a:br>
            <a:r>
              <a:rPr b="1" lang="es-MX" sz="1600" spc="-1" strike="noStrike">
                <a:solidFill>
                  <a:srgbClr val="572314"/>
                </a:solidFill>
                <a:latin typeface="Gill Sans MT"/>
              </a:rPr>
              <a:t>Polígonos y Colonias</a:t>
            </a:r>
            <a:endParaRPr b="0" lang="en-US" sz="16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79280" y="907920"/>
          <a:ext cx="8640720" cy="5769000"/>
        </p:xfrm>
        <a:graphic>
          <a:graphicData uri="http://schemas.openxmlformats.org/drawingml/2006/table">
            <a:tbl>
              <a:tblPr/>
              <a:tblGrid>
                <a:gridCol w="2160720"/>
                <a:gridCol w="1942920"/>
                <a:gridCol w="2376720"/>
                <a:gridCol w="2160360"/>
              </a:tblGrid>
              <a:tr h="433440">
                <a:tc gridSpan="2">
                  <a:txBody>
                    <a:bodyPr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9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lígono 3. Colon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9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lígono 4. Colon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2440"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OS REYES (3) </a:t>
                      </a:r>
                      <a:r>
                        <a:rPr b="1" lang="es-ES" sz="1100" spc="-1" strike="noStrike">
                          <a:solidFill>
                            <a:srgbClr val="922223"/>
                          </a:solidFill>
                          <a:latin typeface="Calibri"/>
                        </a:rPr>
                        <a:t>[AP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 PALM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RANCISCO I. MADERO (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CLEO MULS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54240"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MALIA SOLÓRZANO (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ÁZARO CÁRDEN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ÉXICO PONIENTE  (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EVA MULS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53880"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ENITO JUÁREZ ORIENTE (1) </a:t>
                      </a:r>
                      <a:r>
                        <a:rPr b="1" lang="es-ES" sz="1100" spc="-1" strike="noStrike">
                          <a:solidFill>
                            <a:srgbClr val="922223"/>
                          </a:solidFill>
                          <a:latin typeface="Calibri"/>
                        </a:rPr>
                        <a:t>[AP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NDRO VAL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ULSAY (6) </a:t>
                      </a:r>
                      <a:r>
                        <a:rPr b="1" lang="es-ES" sz="1100" spc="-1" strike="noStrike">
                          <a:solidFill>
                            <a:srgbClr val="922223"/>
                          </a:solidFill>
                          <a:latin typeface="Calibri"/>
                        </a:rPr>
                        <a:t>[AP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EVA REFORMA AGRAR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53880"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EMILIANO ZAPATA ORIENTE (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EL AVILA CAMACH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UEVA SAMBULÁ (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ICH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54240"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DEL VELÁZQUEZ (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CHECH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OCLAN LÓPEZ PORTI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EOS DE OPICH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53880"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ÓPEZ MATEOS </a:t>
                      </a:r>
                      <a:r>
                        <a:rPr b="1" lang="es-ES" sz="1100" spc="-1" strike="noStrike">
                          <a:solidFill>
                            <a:srgbClr val="922223"/>
                          </a:solidFill>
                          <a:latin typeface="Calibri"/>
                        </a:rPr>
                        <a:t>[AP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EVA CHICHEN ITZ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XOCLAN (2) </a:t>
                      </a:r>
                      <a:r>
                        <a:rPr b="1" lang="es-ES" sz="1100" spc="-1" strike="noStrike">
                          <a:solidFill>
                            <a:srgbClr val="922223"/>
                          </a:solidFill>
                          <a:latin typeface="Calibri"/>
                        </a:rPr>
                        <a:t>[AP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ORMA AGRAR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52440"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APÁN </a:t>
                      </a:r>
                      <a:r>
                        <a:rPr b="1" lang="es-ES" sz="1100" spc="-1" strike="noStrike">
                          <a:solidFill>
                            <a:srgbClr val="922223"/>
                          </a:solidFill>
                          <a:latin typeface="Calibri"/>
                        </a:rPr>
                        <a:t>[AP[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EVA MAYAP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EROPUER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BU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53880"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ELCHOR OCAMPO (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EVA PACABTU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SQUES DE MULS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LLA MAG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54240"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LVADOR ALVARADO ORIENTE (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EVO YUCAT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TURON VER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OCLAN BE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53880"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ISAS DEL NOR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TKANC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UDAD INDUSTR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OCLAN CA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53880"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CHEN ITZ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GONO 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RDINES DE NUEVA MULS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OCLAN CARMELI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52440"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CHI SUARE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GONO 108 CT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RDINES DE NUEVA MULSAY 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OCLAN REJ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54240"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 BRIS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 PABLO ORI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RDINES DE NUEVA MULSAY I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OCLAN SAN MANU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53880"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 QUINTAS MULS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OCLAN SANT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84120"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tIns="47160" bIns="47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S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360" rIns="9360" tIns="97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OCLAN SUSU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pic>
        <p:nvPicPr>
          <p:cNvPr id="326" name="Picture 2" descr="Logo2-40aniv(9)"/>
          <p:cNvPicPr/>
          <p:nvPr/>
        </p:nvPicPr>
        <p:blipFill>
          <a:blip r:embed="rId1"/>
          <a:stretch/>
        </p:blipFill>
        <p:spPr>
          <a:xfrm>
            <a:off x="179280" y="0"/>
            <a:ext cx="1876680" cy="647640"/>
          </a:xfrm>
          <a:prstGeom prst="rect">
            <a:avLst/>
          </a:prstGeom>
          <a:ln w="9360">
            <a:solidFill>
              <a:srgbClr val="62242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340000" y="188640"/>
            <a:ext cx="6594480" cy="93636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Cambria"/>
                <a:ea typeface="Arial"/>
              </a:rPr>
              <a:t>Drogas de Mayor Consumo “Alguna Vez en la Vida” .Pacientes de CIJ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Cambria"/>
                <a:ea typeface="Arial"/>
              </a:rPr>
              <a:t>CIJ Mérida, 1er. Semestre de 2014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79280" y="1341000"/>
            <a:ext cx="87552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mbria"/>
              </a:rPr>
              <a:t>Las </a:t>
            </a:r>
            <a:r>
              <a:rPr b="1" lang="es-MX" sz="1800" spc="-1" strike="noStrike">
                <a:solidFill>
                  <a:srgbClr val="000000"/>
                </a:solidFill>
                <a:latin typeface="Cambria"/>
              </a:rPr>
              <a:t>drogas ilícitas de mayor consumo entre los pacientes de primer ingreso </a:t>
            </a:r>
            <a:r>
              <a:rPr b="0" lang="es-MX" sz="1800" spc="-1" strike="noStrike">
                <a:solidFill>
                  <a:srgbClr val="000000"/>
                </a:solidFill>
                <a:latin typeface="Cambria"/>
              </a:rPr>
              <a:t>a tratamiento en el estado de Yucatán </a:t>
            </a:r>
            <a:r>
              <a:rPr b="1" lang="es-MX" sz="1800" spc="-1" strike="noStrike">
                <a:solidFill>
                  <a:srgbClr val="000000"/>
                </a:solidFill>
                <a:latin typeface="Cambria"/>
              </a:rPr>
              <a:t>son: marihuana, inhalables, benzodiacepinas, cocaína y crack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Cambria"/>
              </a:rPr>
              <a:t>Las </a:t>
            </a:r>
            <a:r>
              <a:rPr b="1" lang="es-MX" sz="1800" spc="-1" strike="noStrike">
                <a:solidFill>
                  <a:srgbClr val="000000"/>
                </a:solidFill>
                <a:latin typeface="Cambria"/>
              </a:rPr>
              <a:t>droga que se encuentra por arriba de la media nacional en la entidad es:</a:t>
            </a:r>
            <a:r>
              <a:rPr b="0" lang="es-MX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ambria"/>
              </a:rPr>
              <a:t>benzodiacepinas</a:t>
            </a:r>
            <a:r>
              <a:rPr b="0" lang="es-MX" sz="1800" spc="-1" strike="noStrike">
                <a:solidFill>
                  <a:srgbClr val="000000"/>
                </a:solidFill>
                <a:latin typeface="Cambria"/>
              </a:rPr>
              <a:t> 17.2% (nacional: 13.4%) y las sustancias cercanas al promedio nacional son: </a:t>
            </a:r>
            <a:r>
              <a:rPr b="1" lang="es-MX" sz="1800" spc="-1" strike="noStrike">
                <a:solidFill>
                  <a:srgbClr val="000000"/>
                </a:solidFill>
                <a:latin typeface="Cambria"/>
              </a:rPr>
              <a:t>cannabis </a:t>
            </a:r>
            <a:r>
              <a:rPr b="0" lang="es-MX" sz="1800" spc="-1" strike="noStrike">
                <a:solidFill>
                  <a:srgbClr val="000000"/>
                </a:solidFill>
                <a:latin typeface="Cambria"/>
              </a:rPr>
              <a:t>79.5% (nacional: 86.4%), </a:t>
            </a:r>
            <a:r>
              <a:rPr b="1" lang="es-MX" sz="1800" spc="-1" strike="noStrike">
                <a:solidFill>
                  <a:srgbClr val="000000"/>
                </a:solidFill>
                <a:latin typeface="Cambria"/>
              </a:rPr>
              <a:t>inhalables </a:t>
            </a:r>
            <a:r>
              <a:rPr b="0" lang="es-MX" sz="1800" spc="-1" strike="noStrike">
                <a:solidFill>
                  <a:srgbClr val="000000"/>
                </a:solidFill>
                <a:latin typeface="Cambria"/>
              </a:rPr>
              <a:t>27.9% (nacional 32.5%), </a:t>
            </a:r>
            <a:r>
              <a:rPr b="1" lang="es-MX" sz="1800" spc="-1" strike="noStrike">
                <a:solidFill>
                  <a:srgbClr val="000000"/>
                </a:solidFill>
                <a:latin typeface="Cambria"/>
              </a:rPr>
              <a:t>crack </a:t>
            </a:r>
            <a:r>
              <a:rPr b="0" lang="es-MX" sz="1800" spc="-1" strike="noStrike">
                <a:solidFill>
                  <a:srgbClr val="000000"/>
                </a:solidFill>
                <a:latin typeface="Cambria"/>
              </a:rPr>
              <a:t>15.6% (nacional: 18.5%), </a:t>
            </a:r>
            <a:r>
              <a:rPr b="1" lang="es-MX" sz="1800" spc="-1" strike="noStrike">
                <a:solidFill>
                  <a:srgbClr val="000000"/>
                </a:solidFill>
                <a:latin typeface="Cambria"/>
              </a:rPr>
              <a:t>éxtasis </a:t>
            </a:r>
            <a:r>
              <a:rPr b="0" lang="es-MX" sz="1800" spc="-1" strike="noStrike">
                <a:solidFill>
                  <a:srgbClr val="000000"/>
                </a:solidFill>
                <a:latin typeface="Cambria"/>
              </a:rPr>
              <a:t>5.7% (nacional: 6.0%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Cambria"/>
              </a:rPr>
              <a:t>En cuanto al </a:t>
            </a:r>
            <a:r>
              <a:rPr b="1" lang="es-MX" sz="1800" spc="-1" strike="noStrike">
                <a:solidFill>
                  <a:srgbClr val="000000"/>
                </a:solidFill>
                <a:latin typeface="Cambria"/>
              </a:rPr>
              <a:t>consumo de alcohol y tabaco </a:t>
            </a:r>
            <a:r>
              <a:rPr b="0" lang="es-MX" sz="1800" spc="-1" strike="noStrike">
                <a:solidFill>
                  <a:srgbClr val="000000"/>
                </a:solidFill>
                <a:latin typeface="Cambria"/>
              </a:rPr>
              <a:t>se registraron usos de 66.4% y 68.0% (nacional: 86.5%) y  (nacional: 83.9%) respectivament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Cambria"/>
              </a:rPr>
              <a:t>Mientras que, </a:t>
            </a:r>
            <a:r>
              <a:rPr b="1" lang="es-MX" sz="1800" spc="-1" strike="noStrike">
                <a:solidFill>
                  <a:srgbClr val="000000"/>
                </a:solidFill>
                <a:latin typeface="Cambria"/>
              </a:rPr>
              <a:t>la razón de consumo</a:t>
            </a:r>
            <a:r>
              <a:rPr b="0" lang="es-MX" sz="1800" spc="-1" strike="noStrike">
                <a:solidFill>
                  <a:srgbClr val="000000"/>
                </a:solidFill>
                <a:latin typeface="Cambria"/>
              </a:rPr>
              <a:t>, incluyendo alcohol y tabaco fue de </a:t>
            </a:r>
            <a:r>
              <a:rPr b="1" lang="es-MX" sz="18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es-MX" sz="1800" spc="-1" strike="noStrike">
                <a:solidFill>
                  <a:srgbClr val="000000"/>
                </a:solidFill>
                <a:latin typeface="Cambria"/>
              </a:rPr>
              <a:t>.</a:t>
            </a:r>
            <a:r>
              <a:rPr b="1" lang="es-MX" sz="1800" spc="-1" strike="noStrike">
                <a:solidFill>
                  <a:srgbClr val="000000"/>
                </a:solidFill>
                <a:latin typeface="Cambria"/>
              </a:rPr>
              <a:t>4 hombres por una mujer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Cambria"/>
              </a:rPr>
              <a:t>En tanto que los </a:t>
            </a:r>
            <a:r>
              <a:rPr b="1" lang="es-MX" sz="1800" spc="-1" strike="noStrike">
                <a:solidFill>
                  <a:srgbClr val="000000"/>
                </a:solidFill>
                <a:latin typeface="Cambria"/>
              </a:rPr>
              <a:t>grupos de edad de inicio del consumo de drogas ilícitas </a:t>
            </a:r>
            <a:r>
              <a:rPr b="0" lang="es-MX" sz="1800" spc="-1" strike="noStrike">
                <a:solidFill>
                  <a:srgbClr val="000000"/>
                </a:solidFill>
                <a:latin typeface="Cambria"/>
              </a:rPr>
              <a:t>que concentraron  mayores porcentajes en Yucatán fueron: </a:t>
            </a:r>
            <a:r>
              <a:rPr b="1" lang="es-MX" sz="1800" spc="-1" strike="noStrike">
                <a:solidFill>
                  <a:srgbClr val="000000"/>
                </a:solidFill>
                <a:latin typeface="Cambria"/>
              </a:rPr>
              <a:t>10 a 14 años (48.3%)  y 15 a 19 años (36.1%)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Picture 2" descr="Logo2-40aniv(9)"/>
          <p:cNvPicPr/>
          <p:nvPr/>
        </p:nvPicPr>
        <p:blipFill>
          <a:blip r:embed="rId1"/>
          <a:stretch/>
        </p:blipFill>
        <p:spPr>
          <a:xfrm>
            <a:off x="324000" y="260280"/>
            <a:ext cx="1876320" cy="914400"/>
          </a:xfrm>
          <a:prstGeom prst="rect">
            <a:avLst/>
          </a:prstGeom>
          <a:ln w="9360">
            <a:solidFill>
              <a:srgbClr val="62242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23200" cy="107928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572314"/>
                </a:solidFill>
                <a:latin typeface="Gill Sans MT"/>
              </a:rPr>
              <a:t>ENA 2008-2011.</a:t>
            </a:r>
            <a:br>
              <a:rPr sz="1600"/>
            </a:br>
            <a:r>
              <a:rPr b="0" lang="es-MX" sz="1600" spc="-1" strike="noStrike">
                <a:solidFill>
                  <a:srgbClr val="572314"/>
                </a:solidFill>
                <a:latin typeface="Gill Sans MT"/>
              </a:rPr>
              <a:t>A nivel nacional Yucatán ocupó el lugar No. 24 en consumo de drogas ilegales 2008</a:t>
            </a:r>
            <a:endParaRPr b="0" lang="en-US" sz="16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50920" y="1341360"/>
          <a:ext cx="8683560" cy="5040360"/>
        </p:xfrm>
        <a:graphic>
          <a:graphicData uri="http://schemas.openxmlformats.org/drawingml/2006/table">
            <a:tbl>
              <a:tblPr/>
              <a:tblGrid>
                <a:gridCol w="2894040"/>
                <a:gridCol w="2895480"/>
                <a:gridCol w="2894040"/>
              </a:tblGrid>
              <a:tr h="49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49212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NSUMO ALTO DE ALCOHOL (12-65 AÑOS</a:t>
                      </a: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GIÓN S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9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% N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9976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NSUMO DE TABACO, FUMADORES ACTIVOS (12-65 AÑ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GIÓN S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-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9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% N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.1 (13.9 millon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.7 (17.3 millon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9392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NSUMO DE DROGAS ILÍCITAS AVV (12-65 AÑ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GIÓN S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9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% N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332" name="4 CuadroTexto"/>
          <p:cNvSpPr/>
          <p:nvPr/>
        </p:nvSpPr>
        <p:spPr>
          <a:xfrm>
            <a:off x="179280" y="6453360"/>
            <a:ext cx="85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Gill Sans MT"/>
              </a:rPr>
              <a:t>Fuente: </a:t>
            </a:r>
            <a:r>
              <a:rPr b="0" lang="es-MX" sz="1200" spc="-1" strike="noStrike">
                <a:solidFill>
                  <a:srgbClr val="000000"/>
                </a:solidFill>
                <a:latin typeface="Gill Sans MT"/>
              </a:rPr>
              <a:t>Encuesta Nacional de Adicciones. Sría. de Salud. 2008 y 2011</a:t>
            </a:r>
            <a:r>
              <a:rPr b="0" lang="es-MX" sz="1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2" descr="Logo2-40aniv(9)"/>
          <p:cNvPicPr/>
          <p:nvPr/>
        </p:nvPicPr>
        <p:blipFill>
          <a:blip r:embed="rId1"/>
          <a:stretch/>
        </p:blipFill>
        <p:spPr>
          <a:xfrm>
            <a:off x="324000" y="260280"/>
            <a:ext cx="1876320" cy="914400"/>
          </a:xfrm>
          <a:prstGeom prst="rect">
            <a:avLst/>
          </a:prstGeom>
          <a:ln w="9360">
            <a:solidFill>
              <a:srgbClr val="62242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424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72314"/>
                </a:solidFill>
                <a:latin typeface="Gill Sans MT"/>
              </a:rPr>
              <a:t>ENA 2008. Comparativo Yucatán - Nacional 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79280" y="907920"/>
          <a:ext cx="8755200" cy="5424480"/>
        </p:xfrm>
        <a:graphic>
          <a:graphicData uri="http://schemas.openxmlformats.org/drawingml/2006/table">
            <a:tbl>
              <a:tblPr/>
              <a:tblGrid>
                <a:gridCol w="4670640"/>
                <a:gridCol w="2017440"/>
                <a:gridCol w="2067120"/>
              </a:tblGrid>
              <a:tr h="43992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aba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37f26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d77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Yucatá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2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a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2d3"/>
                    </a:solidFill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umadores activ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2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2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2d3"/>
                    </a:solidFill>
                  </a:tcPr>
                </a:tc>
              </a:tr>
              <a:tr h="4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x fum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2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2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2d3"/>
                    </a:solidFill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fum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2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2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9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2d3"/>
                    </a:solidFill>
                  </a:tcPr>
                </a:tc>
              </a:tr>
              <a:tr h="439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lcoh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37f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d77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d77a"/>
                    </a:solidFill>
                  </a:tcPr>
                </a:tc>
              </a:tr>
              <a:tr h="289548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Consumo diari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Hombres (1.0%) por debajo del promedio nacional (P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Mujeres (0.5%) por arriba del promedio n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Consumo al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Hombres (27.0%) por debajo del P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Mujeres (12.0%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Consumo consuetudi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Hombres (7.7%) por debajo del P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Mujeres (1.4%) dentro del P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Abuso/Depend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Hombres (6.1%) por debajo del P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Mujeres (1.0%) por debajo del P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2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6835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572314"/>
                </a:solidFill>
                <a:latin typeface="Gill Sans MT"/>
              </a:rPr>
              <a:t>ENA 2008. Comparativo Yucatán - Nacional 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250920" y="836640"/>
          <a:ext cx="8700840" cy="5796000"/>
        </p:xfrm>
        <a:graphic>
          <a:graphicData uri="http://schemas.openxmlformats.org/drawingml/2006/table">
            <a:tbl>
              <a:tblPr/>
              <a:tblGrid>
                <a:gridCol w="5329080"/>
                <a:gridCol w="1656000"/>
                <a:gridCol w="333360"/>
                <a:gridCol w="138240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ro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Yucatá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a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xposición al consu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 =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 =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 = 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 = 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nsumo global de drog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Hombres, menor al P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Mujeres, dentro del P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0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rogas méd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Hombres, dentro del P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Mujeres, superior al P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436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nsumo de </a:t>
                      </a: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iguana, cocaína y metanfetaminas,  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ra los </a:t>
                      </a:r>
                      <a:r>
                        <a:rPr b="1" lang="es-MX" sz="14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H </a:t>
                      </a:r>
                      <a:r>
                        <a:rPr b="0" lang="es-MX" sz="14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es menor en comparación con el PN</a:t>
                      </a: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. En el caso de </a:t>
                      </a:r>
                      <a:r>
                        <a:rPr b="1" lang="es-MX" sz="14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M, </a:t>
                      </a:r>
                      <a:r>
                        <a:rPr b="0" lang="es-MX" sz="14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el consumo de </a:t>
                      </a:r>
                      <a:r>
                        <a:rPr b="1" lang="es-MX" sz="14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mariguana,  </a:t>
                      </a:r>
                      <a:r>
                        <a:rPr b="0" lang="es-MX" sz="14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se encuentra dentro del PN,  el de </a:t>
                      </a:r>
                      <a:r>
                        <a:rPr b="1" lang="es-MX" sz="14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cocaína </a:t>
                      </a:r>
                      <a:r>
                        <a:rPr b="0" lang="es-MX" sz="14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es menor y el de </a:t>
                      </a:r>
                      <a:r>
                        <a:rPr b="1" lang="es-MX" sz="14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metanfetaminas,  </a:t>
                      </a:r>
                      <a:r>
                        <a:rPr b="0" lang="es-MX" sz="1400" spc="-1" strike="noStrike" u="sng">
                          <a:solidFill>
                            <a:srgbClr val="000000"/>
                          </a:solidFill>
                          <a:uFillTx/>
                          <a:latin typeface="Gill Sans MT"/>
                        </a:rPr>
                        <a:t>es mayor al P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428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ersonas dependi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Yucatán (0.1%) y PN (0.6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solidFill>
            <a:srgbClr val="fff1c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72314"/>
                </a:solidFill>
                <a:latin typeface="Gill Sans MT"/>
              </a:rPr>
              <a:t>Encuesta en Hogares. Yucatán 2005 - 2014</a:t>
            </a:r>
            <a:br>
              <a:rPr sz="2800"/>
            </a:br>
            <a:r>
              <a:rPr b="0" lang="es-MX" sz="2000" spc="-1" strike="noStrike">
                <a:solidFill>
                  <a:srgbClr val="572314"/>
                </a:solidFill>
                <a:latin typeface="Gill Sans MT"/>
              </a:rPr>
              <a:t>Encuesta Estatal de Adicciones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250920" y="1417680"/>
          <a:ext cx="8683560" cy="3854520"/>
        </p:xfrm>
        <a:graphic>
          <a:graphicData uri="http://schemas.openxmlformats.org/drawingml/2006/table">
            <a:tbl>
              <a:tblPr/>
              <a:tblGrid>
                <a:gridCol w="1728720"/>
                <a:gridCol w="1160280"/>
                <a:gridCol w="1160640"/>
                <a:gridCol w="1855800"/>
                <a:gridCol w="1388880"/>
                <a:gridCol w="13892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lguna Vez en la V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Últimos 30 dí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ualquier dro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ualquier dro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3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/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igu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9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rigu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/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caína/ Cr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8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caí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0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/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anquiliz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r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.0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/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udopatí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elu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d/Inter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340" name="4 CuadroTexto"/>
          <p:cNvSpPr/>
          <p:nvPr/>
        </p:nvSpPr>
        <p:spPr>
          <a:xfrm>
            <a:off x="250920" y="6093000"/>
            <a:ext cx="7993080" cy="307080"/>
          </a:xfrm>
          <a:prstGeom prst="rect">
            <a:avLst/>
          </a:prstGeom>
          <a:solidFill>
            <a:srgbClr val="fed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uente. Consejo Estatal de Prevención de Adicciones. S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55200" cy="1125360"/>
          </a:xfrm>
          <a:prstGeom prst="rect">
            <a:avLst/>
          </a:prstGeom>
          <a:solidFill>
            <a:srgbClr val="ffe39d"/>
          </a:solidFill>
          <a:ln w="9360">
            <a:solidFill>
              <a:srgbClr val="3b1d15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Uso de drogas </a:t>
            </a:r>
            <a:r>
              <a:rPr b="0" i="1" lang="es-MX" sz="1600" spc="-1" strike="noStrike">
                <a:solidFill>
                  <a:srgbClr val="000000"/>
                </a:solidFill>
                <a:latin typeface="Gill Sans MT"/>
              </a:rPr>
              <a:t>alguna vez en la vida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en</a:t>
            </a:r>
            <a:r>
              <a:rPr b="0" i="1" lang="es-MX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pacientes de primera vez </a:t>
            </a:r>
            <a:br>
              <a:rPr sz="1600"/>
            </a:b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Gill Sans MT"/>
              </a:rPr>
              <a:t>CIJ del Estado de Yucatán (CIJ Mérida)</a:t>
            </a:r>
            <a:br>
              <a:rPr sz="1600"/>
            </a:b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2° semestre 2004 – 2° semestre 2013</a:t>
            </a:r>
            <a:br>
              <a:rPr sz="1600"/>
            </a:br>
            <a:endParaRPr b="0" lang="en-US" sz="1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2" name="Object 3" descr=""/>
          <p:cNvPicPr/>
          <p:nvPr/>
        </p:nvPicPr>
        <p:blipFill>
          <a:blip r:embed="rId1"/>
          <a:stretch/>
        </p:blipFill>
        <p:spPr>
          <a:xfrm>
            <a:off x="1332000" y="1314360"/>
            <a:ext cx="7561080" cy="5354640"/>
          </a:xfrm>
          <a:prstGeom prst="rect">
            <a:avLst/>
          </a:prstGeom>
          <a:ln w="0">
            <a:noFill/>
          </a:ln>
        </p:spPr>
      </p:pic>
      <p:sp>
        <p:nvSpPr>
          <p:cNvPr id="343" name="4 CuadroTexto"/>
          <p:cNvSpPr/>
          <p:nvPr/>
        </p:nvSpPr>
        <p:spPr>
          <a:xfrm>
            <a:off x="179280" y="981000"/>
            <a:ext cx="1944720" cy="3077640"/>
          </a:xfrm>
          <a:prstGeom prst="rect">
            <a:avLst/>
          </a:prstGeom>
          <a:solidFill>
            <a:srgbClr val="fed46c"/>
          </a:solidFill>
          <a:ln w="9360">
            <a:solidFill>
              <a:srgbClr val="3b1d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l consumo de mariguana se incrementó 26.6 puntos porcentuales entre 2007 y 2013, al pasar de 58.7% a 85.3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 partir del 2011 la mariguana ha llegado a ser la droga de mayor consumo  ubicándose por arriba del tabaco y/o alcoho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ME</dc:creator>
  <dc:description/>
  <dc:language>en-US</dc:language>
  <cp:lastModifiedBy>HOME</cp:lastModifiedBy>
  <dcterms:modified xsi:type="dcterms:W3CDTF">2015-10-27T04:39:27Z</dcterms:modified>
  <cp:revision>24</cp:revision>
  <dc:subject/>
  <dc:title>H. Ayuntamiento de Mérida Centros de Integración Juvenil, A. C.</dc:title>
</cp:coreProperties>
</file>