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1EE7-7217-4545-84E4-8E35F14D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FD05-4EA1-4421-9830-0EEE64E0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7FD34-6D50-40A0-9842-4EF4A733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B1CA0-4E68-41DC-8A3C-FB8F7040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8672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EA791-58D8-451F-9CE9-E69665E3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0BBAA-D639-4E6F-B6FD-47310AB1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43099-F60D-4522-8404-1F5D7544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74545-3A36-4C70-9DF1-08098E3D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3E114-A94E-49C5-BC4E-7B2FDCED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663D6-E893-4D27-8BD4-B88AF6D7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2BE0D-58F9-463D-9415-455238C7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9D96C-0975-4F92-81A3-5A47A960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9D72-1D61-425C-B91A-8060BEB7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5F045-7E96-4838-9073-C685C0E1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3A0FA-493A-47CE-B629-FDA44D33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59199-FED0-4029-BF29-ED21E3F9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3EE42-B7FE-493A-9976-5EA80683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8672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AEF17-4B2C-4231-BE54-9F039D66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ECBAC-C57D-4E76-91DE-CE3F199C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73093-4CC1-4A19-8009-C4BDCC8D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4E3A1-DCC0-4F71-8FB7-88DF1515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F0ECC-5536-4F51-86C3-E0C3DEB9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C9657-BAEA-47BF-ADB3-88AD7BFF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EE79-6A4D-4431-AE98-18117077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EA03B-C838-44E1-852B-07D4E522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BF563-687D-4C7D-A3F6-B673C1D5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3BF28-AA94-42AC-A285-F26ED550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2C529-1E01-4C83-9FC4-417A7FE6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CA83D-3FA2-4CED-B2E7-BC22046F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7FACA-8574-4456-BCF9-FE2C2EEB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8672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A217E-9A7C-47A4-8CF5-6CCB77D9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2FBD9-8939-4371-805E-92D89AD6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3C5CC-FEF8-4B34-B399-7964AD20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D5376-7819-41DB-A229-EF6E1E55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EAD7A-4E26-4378-B129-BB4C715F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79CA1-7964-4F92-8A58-B7F2D9D2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D9C49-9D50-4A78-87EF-E6409C4E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49E7F-E0C4-4F42-945C-48FED662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AE742-6A0F-43D4-9928-E2E50A5C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2A9B8-2519-4240-8F5F-F047751E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CB0D1-689B-4542-BBDA-766F9EBE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BF3DB-7FEF-4807-AD70-BEA7709C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81CA3-3F15-4078-98A2-5E194A9B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8672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A3346-4BE5-43F0-8BED-87C004D9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B717C-B015-4046-8134-BEE72AA3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23E47-2B6C-42A0-85B8-0AB4B114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12E92-0A52-4203-94A5-E52E4E0A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34E09-31B6-4C82-B831-DF442252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EA563-1F13-410F-95CA-A0B89DF4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69197-959C-4E49-A42D-23138F59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04FC3-2D57-4194-8AEA-30EDAE6D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B79C5-A4D3-4103-B37F-3E9C41FF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B1C2FA-41D5-4360-9167-02BCAC09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046355-888C-48D4-9BDC-D9505FFF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62D217-DC91-4026-A57A-B686060E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BDE43-74B8-4F99-924C-ADAF7279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C16C4-742C-4EE4-BA5D-0A89FEA7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8672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BA832-CE07-4165-9C76-ECB196D4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FB2A61-D21E-4FD0-A87C-860FB87B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347C57-3F15-4BB3-9B03-0B334BEA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0BC5DF-41B0-4870-900E-8297220D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30AF18-7C47-45C1-BD9E-3AF514A9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569B0-A979-4C2F-8488-B1EE733D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C11B2-BFFA-48C8-A05E-6E5FECE9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69E1F-3E4A-4830-86BC-75E07450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57C24-0773-420B-ABE1-EB4A957F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8672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D29A7-7557-4380-A75E-FC97EDBE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CFBB5-3F88-4A41-B9D7-02E7EC9B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7DB8-02B3-439B-B6CE-981D5A1F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C5D75-F8D7-46FC-AC32-79F6F5AB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3D52B-8A50-4EE3-BE1C-E7A8C496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25FFC-BFB7-434B-BF52-CD399908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B64F5-7845-4EAC-8F0C-8F820C99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EB7E1-1EE5-44CB-8FBB-5E4BFEAE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778AD-D607-43ED-8DE1-5FA62202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31454-1DF9-4C7F-A34E-E02513D4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3642D-8A77-4EE0-BE09-930E66FD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9FC0B-EBAD-44B5-A895-65520932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DC7E4-D1A9-4631-B20A-5C5DE973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7BD-C20F-4AAF-98E2-4119A805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8672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89705-308C-4923-BB2B-D8BE0FBC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B7FD4-71C8-4E39-92E5-A1329A3E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553F3-EF8F-4A44-8C13-AF53E9EB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839E1-B1E0-4D1B-B01D-56283B12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63A92-D870-4600-97FA-B25FB011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559C7-E83A-4A06-B412-431EDC2A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330DB-4077-4E5E-8690-690E2934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E90E2-ED36-4E6E-9C7C-93F6EE94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3D2FB-BF7C-431D-8D02-8B9AE17D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5DE8D-A496-4600-A53C-7F968421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0F2C-C9F0-4E6A-9C4E-D265B365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88BF9-B331-46FF-9C87-A3F440EF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72D64-463B-4FA7-94D7-83B986BE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8672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2A602-1F09-49E7-A949-C98CB93B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C15A8-FD90-4E09-B4E8-BEE65781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7E1F9-051B-4799-B7D7-3AC2504C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21283-B8C3-4CA9-9D60-D240DFF8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889D1-D1BF-4257-8502-41BCD5BF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3961D-613D-4C04-9FBA-BA633681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FDEBB-8BDB-46B3-98C6-9517B187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E3BFF-D9E3-45CA-87B9-B6414B1C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1F59-D247-485E-B671-293F82BD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5EC2B-B7A6-41C9-A3D8-64989DCC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E0DDC-2012-4926-8AB5-BE2F2607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4BAA3-5576-4E09-8996-C26D98B5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9FAB5-2F77-469F-A2D7-3B5C7E78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8672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230EF-B099-4511-B9C2-780C32EE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B45C4-15F2-4F34-B297-7AB368EA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B2758-CFF6-4F8A-8622-9BBC5581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09DF3-848D-4A51-84E1-99B68D91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2B29D-25FE-46B2-B06F-562336BA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0E53A-21C7-4B04-922E-A4D8AA1F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8672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E317-4684-4CF3-A48D-E9D1A308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98827-BB0F-4E65-84D9-22E96E94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1B854-FB38-4CB1-9AF8-DE68A268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B5737-C8C0-4F12-AFFF-2F49D129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E4C08-DB6F-4B96-A2FF-71AA192A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F3226-CB9A-4A37-B1FC-5AAAD195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17AD5-F2C5-4836-88DF-E43AEE87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8672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D4213-A51F-4169-B044-1637B1D6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12949-96F4-4449-BEAC-B5C187E7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BEA64-78F8-4C2A-81A2-8812D104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0B7E4-DCFD-476E-BB3F-93660A80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94A6-2605-48CA-A0E2-7F076261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6D54B-E20A-42EC-84DF-005679CD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D5881-DC72-4A87-B681-6A4178F4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1E27A-66E3-4663-99FF-2730EF25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C1C22-95E0-4113-B339-09B792C01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7EC58-D790-453B-87BE-3E110857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AEF23-C04A-4DA5-A70C-89A69A05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99BEE-D82D-4D1C-B4F1-72EC4C4C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847C6-312A-4EB6-9DC4-F41B8CF4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8672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02885-0A78-466A-98E1-3DE6696A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4C97F-D255-4244-BFC4-CE9DCBCB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73FA-E8A7-45F5-A3F9-0CD75292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7D593-67B7-4ACD-A0B8-2449A527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1F179-9014-41AD-A8ED-AD818D92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34212-8F35-48D7-BB25-B566AAA9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3E7EF-7227-407B-9E3F-183A3DB7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EA301-D8E8-47B0-9F56-B27DB841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6C8A1-1B6B-4524-A1CA-CBFD9722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1313F-8A2D-4482-9E82-81F0F72E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6E982-F679-4074-840D-8746C996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2C270-B6FA-45F6-8897-934F10CE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57B2A-C922-432C-A9E7-53738515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2AD4-1124-42B2-AEDE-E1ACFADF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8672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DFD32-6EFB-4B99-AF0D-55B8808B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24C26-6BC3-49DC-902A-9A1A0957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6EDBF-EA32-4538-82E4-CC4E7D29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94FEC-2549-4B02-9BA2-B1643143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06929-E103-488D-A5B9-3FACC5E6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34833-9015-4CF0-BDEA-9F7BA41E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37706-B926-4CBD-9E7B-2E171DF5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721F1-E1B2-47DA-8158-83674BB3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96102-7030-4604-B751-5FC96759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800"/>
            <a:ext cx="7686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C56C3-01C2-4279-BD8D-61805C71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27AE-EFA8-4B8A-910C-D8C0B70ADE9B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6 Rectángulo"/>
          <p:cNvGrpSpPr/>
          <p:nvPr/>
        </p:nvGrpSpPr>
        <p:grpSpPr>
          <a:xfrm>
            <a:off x="-55440" y="755640"/>
            <a:ext cx="9254880" cy="201600"/>
            <a:chOff x="-55440" y="755640"/>
            <a:chExt cx="9254880" cy="201600"/>
          </a:xfrm>
        </p:grpSpPr>
        <p:pic>
          <p:nvPicPr>
            <p:cNvPr id="414" name="6 Rectángulo" descr=""/>
            <p:cNvPicPr/>
            <p:nvPr/>
          </p:nvPicPr>
          <p:blipFill>
            <a:blip r:embed="rId2"/>
            <a:stretch/>
          </p:blipFill>
          <p:spPr>
            <a:xfrm>
              <a:off x="-55440" y="755640"/>
              <a:ext cx="92548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0" y="785880"/>
              <a:ext cx="914400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6" name="7 Imagen" descr="logoplata300.png"/>
          <p:cNvPicPr/>
          <p:nvPr/>
        </p:nvPicPr>
        <p:blipFill>
          <a:blip r:embed="rId3"/>
          <a:stretch/>
        </p:blipFill>
        <p:spPr>
          <a:xfrm>
            <a:off x="8223120" y="20520"/>
            <a:ext cx="785880" cy="781200"/>
          </a:xfrm>
          <a:prstGeom prst="rect">
            <a:avLst/>
          </a:prstGeom>
          <a:ln w="0">
            <a:noFill/>
          </a:ln>
        </p:spPr>
      </p:pic>
      <p:sp>
        <p:nvSpPr>
          <p:cNvPr id="417" name="8 Rectángulo"/>
          <p:cNvSpPr/>
          <p:nvPr/>
        </p:nvSpPr>
        <p:spPr>
          <a:xfrm>
            <a:off x="0" y="6500880"/>
            <a:ext cx="9144000" cy="330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Centros de Integración Juvenil, A.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Sistema de Información Epidemiológica del Consumo de Drogas 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(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SIECD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)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                    www.cij.gob.m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F31C-5E9C-475A-9AF7-BA83EDC31A9A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6 Rectángulo"/>
          <p:cNvGrpSpPr/>
          <p:nvPr/>
        </p:nvGrpSpPr>
        <p:grpSpPr>
          <a:xfrm>
            <a:off x="-55440" y="755640"/>
            <a:ext cx="9254880" cy="201600"/>
            <a:chOff x="-55440" y="755640"/>
            <a:chExt cx="9254880" cy="201600"/>
          </a:xfrm>
        </p:grpSpPr>
        <p:pic>
          <p:nvPicPr>
            <p:cNvPr id="460" name="6 Rectángulo" descr=""/>
            <p:cNvPicPr/>
            <p:nvPr/>
          </p:nvPicPr>
          <p:blipFill>
            <a:blip r:embed="rId2"/>
            <a:stretch/>
          </p:blipFill>
          <p:spPr>
            <a:xfrm>
              <a:off x="-55440" y="755640"/>
              <a:ext cx="92548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0" y="785880"/>
              <a:ext cx="914400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2" name="7 Imagen" descr="logoplata300.png"/>
          <p:cNvPicPr/>
          <p:nvPr/>
        </p:nvPicPr>
        <p:blipFill>
          <a:blip r:embed="rId3"/>
          <a:stretch/>
        </p:blipFill>
        <p:spPr>
          <a:xfrm>
            <a:off x="8223120" y="20520"/>
            <a:ext cx="785880" cy="781200"/>
          </a:xfrm>
          <a:prstGeom prst="rect">
            <a:avLst/>
          </a:prstGeom>
          <a:ln w="0">
            <a:noFill/>
          </a:ln>
        </p:spPr>
      </p:pic>
      <p:sp>
        <p:nvSpPr>
          <p:cNvPr id="463" name="8 Rectángulo"/>
          <p:cNvSpPr/>
          <p:nvPr/>
        </p:nvSpPr>
        <p:spPr>
          <a:xfrm>
            <a:off x="0" y="6500880"/>
            <a:ext cx="9144000" cy="330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Centros de Integración Juvenil, A.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Sistema de Información Epidemiológica del Consumo de Drogas 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(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SIECD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)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                    www.cij.gob.m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325E-7821-4070-A7EB-C562B041CB87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6 Rectángulo"/>
          <p:cNvGrpSpPr/>
          <p:nvPr/>
        </p:nvGrpSpPr>
        <p:grpSpPr>
          <a:xfrm>
            <a:off x="6724800" y="-30240"/>
            <a:ext cx="206280" cy="6510240"/>
            <a:chOff x="6724800" y="-30240"/>
            <a:chExt cx="206280" cy="6510240"/>
          </a:xfrm>
        </p:grpSpPr>
        <p:pic>
          <p:nvPicPr>
            <p:cNvPr id="506" name="6 Rectángulo" descr=""/>
            <p:cNvPicPr/>
            <p:nvPr/>
          </p:nvPicPr>
          <p:blipFill>
            <a:blip r:embed="rId2"/>
            <a:stretch/>
          </p:blipFill>
          <p:spPr>
            <a:xfrm>
              <a:off x="6724800" y="-30240"/>
              <a:ext cx="206280" cy="65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 rot="5400000">
              <a:off x="3627000" y="3151080"/>
              <a:ext cx="6400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7 Imagen" descr="logoplata300.png"/>
          <p:cNvPicPr/>
          <p:nvPr/>
        </p:nvPicPr>
        <p:blipFill>
          <a:blip r:embed="rId3"/>
          <a:stretch/>
        </p:blipFill>
        <p:spPr>
          <a:xfrm>
            <a:off x="8223120" y="20520"/>
            <a:ext cx="785880" cy="781200"/>
          </a:xfrm>
          <a:prstGeom prst="rect">
            <a:avLst/>
          </a:prstGeom>
          <a:ln w="0">
            <a:noFill/>
          </a:ln>
        </p:spPr>
      </p:pic>
      <p:sp>
        <p:nvSpPr>
          <p:cNvPr id="509" name="8 Rectángulo"/>
          <p:cNvSpPr/>
          <p:nvPr/>
        </p:nvSpPr>
        <p:spPr>
          <a:xfrm>
            <a:off x="0" y="6500880"/>
            <a:ext cx="9144000" cy="330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Centros de Integración Juvenil, A.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Sistema de Información Epidemiológica del Consumo de Drogas 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(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SIECD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)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                    www.cij.gob.m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7345-7B42-4F35-A3D6-86C63CA3BB9A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D5DE-0B9C-44CC-989E-8EF74410DF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9757-1987-47BD-9D46-BFE7227E869D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dt" idx="6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6 Rectángulo"/>
          <p:cNvGrpSpPr/>
          <p:nvPr/>
        </p:nvGrpSpPr>
        <p:grpSpPr>
          <a:xfrm>
            <a:off x="-55440" y="781200"/>
            <a:ext cx="9254880" cy="2968560"/>
            <a:chOff x="-55440" y="781200"/>
            <a:chExt cx="9254880" cy="2968560"/>
          </a:xfrm>
        </p:grpSpPr>
        <p:pic>
          <p:nvPicPr>
            <p:cNvPr id="85" name="6 Rectángulo" descr=""/>
            <p:cNvPicPr/>
            <p:nvPr/>
          </p:nvPicPr>
          <p:blipFill>
            <a:blip r:embed="rId2"/>
            <a:stretch/>
          </p:blipFill>
          <p:spPr>
            <a:xfrm>
              <a:off x="-55440" y="781200"/>
              <a:ext cx="9254880" cy="29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0" y="811080"/>
              <a:ext cx="9144000" cy="28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10 Imagen" descr="logoplata300.png"/>
          <p:cNvPicPr/>
          <p:nvPr/>
        </p:nvPicPr>
        <p:blipFill>
          <a:blip r:embed="rId3"/>
          <a:stretch/>
        </p:blipFill>
        <p:spPr>
          <a:xfrm>
            <a:off x="6215040" y="1025640"/>
            <a:ext cx="2567160" cy="2538360"/>
          </a:xfrm>
          <a:prstGeom prst="rect">
            <a:avLst/>
          </a:prstGeom>
          <a:ln w="0">
            <a:noFill/>
          </a:ln>
        </p:spPr>
      </p:pic>
      <p:sp>
        <p:nvSpPr>
          <p:cNvPr id="88" name="8 CuadroTexto"/>
          <p:cNvSpPr/>
          <p:nvPr/>
        </p:nvSpPr>
        <p:spPr>
          <a:xfrm>
            <a:off x="0" y="1382760"/>
            <a:ext cx="60721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beef4"/>
                </a:solidFill>
                <a:latin typeface="Calibri"/>
              </a:rPr>
              <a:t>Centros de Integración Juvenil, A.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dbeef4"/>
                </a:solidFill>
                <a:latin typeface="Calibri"/>
              </a:rPr>
              <a:t>“</a:t>
            </a:r>
            <a:r>
              <a:rPr b="1" i="1" lang="es-MX" sz="1800" spc="-1" strike="noStrike">
                <a:solidFill>
                  <a:srgbClr val="dbeef4"/>
                </a:solidFill>
                <a:latin typeface="Calibri"/>
              </a:rPr>
              <a:t>Para Vivir sin Adicciones</a:t>
            </a:r>
            <a:r>
              <a:rPr b="1" lang="es-MX" sz="1800" spc="-1" strike="noStrike">
                <a:solidFill>
                  <a:srgbClr val="dbeef4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dbeef4"/>
                </a:solidFill>
                <a:latin typeface="Calibri"/>
              </a:rPr>
              <a:t>www.cij.gob.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9 Conector recto"/>
          <p:cNvSpPr/>
          <p:nvPr/>
        </p:nvSpPr>
        <p:spPr>
          <a:xfrm flipH="1" flipV="1">
            <a:off x="1428840" y="2141640"/>
            <a:ext cx="4572000" cy="7920"/>
          </a:xfrm>
          <a:prstGeom prst="line">
            <a:avLst/>
          </a:prstGeom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"/>
          <p:cNvGrpSpPr/>
          <p:nvPr/>
        </p:nvGrpSpPr>
        <p:grpSpPr>
          <a:xfrm>
            <a:off x="-30240" y="3352680"/>
            <a:ext cx="9204480" cy="341280"/>
            <a:chOff x="-30240" y="3352680"/>
            <a:chExt cx="9204480" cy="341280"/>
          </a:xfrm>
        </p:grpSpPr>
        <p:pic>
          <p:nvPicPr>
            <p:cNvPr id="91" name="10 Rectángulo" descr=""/>
            <p:cNvPicPr/>
            <p:nvPr/>
          </p:nvPicPr>
          <p:blipFill>
            <a:blip r:embed="rId4"/>
            <a:stretch/>
          </p:blipFill>
          <p:spPr>
            <a:xfrm>
              <a:off x="-30240" y="3352680"/>
              <a:ext cx="92044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0" y="3382920"/>
              <a:ext cx="9144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1 Rectángulo"/>
          <p:cNvGrpSpPr/>
          <p:nvPr/>
        </p:nvGrpSpPr>
        <p:grpSpPr>
          <a:xfrm>
            <a:off x="-23760" y="781200"/>
            <a:ext cx="9198000" cy="341280"/>
            <a:chOff x="-23760" y="781200"/>
            <a:chExt cx="9198000" cy="341280"/>
          </a:xfrm>
        </p:grpSpPr>
        <p:pic>
          <p:nvPicPr>
            <p:cNvPr id="94" name="11 Rectángulo" descr=""/>
            <p:cNvPicPr/>
            <p:nvPr/>
          </p:nvPicPr>
          <p:blipFill>
            <a:blip r:embed="rId5"/>
            <a:stretch/>
          </p:blipFill>
          <p:spPr>
            <a:xfrm>
              <a:off x="-23760" y="781200"/>
              <a:ext cx="919800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680" y="811080"/>
              <a:ext cx="91440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E33E-3686-4DB8-987F-EF0654BDD18B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6 Rectángulo"/>
          <p:cNvGrpSpPr/>
          <p:nvPr/>
        </p:nvGrpSpPr>
        <p:grpSpPr>
          <a:xfrm>
            <a:off x="-55440" y="755640"/>
            <a:ext cx="9254880" cy="201600"/>
            <a:chOff x="-55440" y="755640"/>
            <a:chExt cx="9254880" cy="201600"/>
          </a:xfrm>
        </p:grpSpPr>
        <p:pic>
          <p:nvPicPr>
            <p:cNvPr id="138" name="6 Rectángulo" descr=""/>
            <p:cNvPicPr/>
            <p:nvPr/>
          </p:nvPicPr>
          <p:blipFill>
            <a:blip r:embed="rId2"/>
            <a:stretch/>
          </p:blipFill>
          <p:spPr>
            <a:xfrm>
              <a:off x="-55440" y="755640"/>
              <a:ext cx="92548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0" y="785880"/>
              <a:ext cx="914400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7 Imagen" descr="logoplata300.png"/>
          <p:cNvPicPr/>
          <p:nvPr/>
        </p:nvPicPr>
        <p:blipFill>
          <a:blip r:embed="rId3"/>
          <a:stretch/>
        </p:blipFill>
        <p:spPr>
          <a:xfrm>
            <a:off x="8223120" y="20520"/>
            <a:ext cx="785880" cy="781200"/>
          </a:xfrm>
          <a:prstGeom prst="rect">
            <a:avLst/>
          </a:prstGeom>
          <a:ln w="0">
            <a:noFill/>
          </a:ln>
        </p:spPr>
      </p:pic>
      <p:sp>
        <p:nvSpPr>
          <p:cNvPr id="141" name="8 Rectángulo"/>
          <p:cNvSpPr/>
          <p:nvPr/>
        </p:nvSpPr>
        <p:spPr>
          <a:xfrm>
            <a:off x="0" y="6500880"/>
            <a:ext cx="9144000" cy="330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Centros de Integración Juvenil, A.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Sistema de Información Epidemiológica del Consumo de Drogas 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(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SIECD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)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                    www.cij.gob.m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6048-9805-4B6F-B06A-F92CF945B3D8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6 Rectángulo"/>
          <p:cNvGrpSpPr/>
          <p:nvPr/>
        </p:nvGrpSpPr>
        <p:grpSpPr>
          <a:xfrm>
            <a:off x="-55440" y="755640"/>
            <a:ext cx="9254880" cy="201600"/>
            <a:chOff x="-55440" y="755640"/>
            <a:chExt cx="9254880" cy="201600"/>
          </a:xfrm>
        </p:grpSpPr>
        <p:pic>
          <p:nvPicPr>
            <p:cNvPr id="184" name="6 Rectángulo" descr=""/>
            <p:cNvPicPr/>
            <p:nvPr/>
          </p:nvPicPr>
          <p:blipFill>
            <a:blip r:embed="rId2"/>
            <a:stretch/>
          </p:blipFill>
          <p:spPr>
            <a:xfrm>
              <a:off x="-55440" y="755640"/>
              <a:ext cx="92548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785880"/>
              <a:ext cx="914400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7 Imagen" descr="logoplata300.png"/>
          <p:cNvPicPr/>
          <p:nvPr/>
        </p:nvPicPr>
        <p:blipFill>
          <a:blip r:embed="rId3"/>
          <a:stretch/>
        </p:blipFill>
        <p:spPr>
          <a:xfrm>
            <a:off x="8223120" y="20520"/>
            <a:ext cx="785880" cy="781200"/>
          </a:xfrm>
          <a:prstGeom prst="rect">
            <a:avLst/>
          </a:prstGeom>
          <a:ln w="0">
            <a:noFill/>
          </a:ln>
        </p:spPr>
      </p:pic>
      <p:sp>
        <p:nvSpPr>
          <p:cNvPr id="187" name="8 Rectángulo"/>
          <p:cNvSpPr/>
          <p:nvPr/>
        </p:nvSpPr>
        <p:spPr>
          <a:xfrm>
            <a:off x="0" y="6500880"/>
            <a:ext cx="9144000" cy="330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Centros de Integración Juvenil, A.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Sistema de Información Epidemiológica del Consumo de Drogas 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(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SIECD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)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                    www.cij.gob.m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B19A-D5B9-4759-95A0-4487389AFF14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6 Rectángulo"/>
          <p:cNvGrpSpPr/>
          <p:nvPr/>
        </p:nvGrpSpPr>
        <p:grpSpPr>
          <a:xfrm>
            <a:off x="-55440" y="755640"/>
            <a:ext cx="9254880" cy="201600"/>
            <a:chOff x="-55440" y="755640"/>
            <a:chExt cx="9254880" cy="201600"/>
          </a:xfrm>
        </p:grpSpPr>
        <p:pic>
          <p:nvPicPr>
            <p:cNvPr id="230" name="6 Rectángulo" descr=""/>
            <p:cNvPicPr/>
            <p:nvPr/>
          </p:nvPicPr>
          <p:blipFill>
            <a:blip r:embed="rId2"/>
            <a:stretch/>
          </p:blipFill>
          <p:spPr>
            <a:xfrm>
              <a:off x="-55440" y="755640"/>
              <a:ext cx="92548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0" y="785880"/>
              <a:ext cx="914400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7 Imagen" descr="logoplata300.png"/>
          <p:cNvPicPr/>
          <p:nvPr/>
        </p:nvPicPr>
        <p:blipFill>
          <a:blip r:embed="rId3"/>
          <a:stretch/>
        </p:blipFill>
        <p:spPr>
          <a:xfrm>
            <a:off x="8223120" y="20520"/>
            <a:ext cx="785880" cy="781200"/>
          </a:xfrm>
          <a:prstGeom prst="rect">
            <a:avLst/>
          </a:prstGeom>
          <a:ln w="0">
            <a:noFill/>
          </a:ln>
        </p:spPr>
      </p:pic>
      <p:sp>
        <p:nvSpPr>
          <p:cNvPr id="233" name="8 Rectángulo"/>
          <p:cNvSpPr/>
          <p:nvPr/>
        </p:nvSpPr>
        <p:spPr>
          <a:xfrm>
            <a:off x="0" y="6500880"/>
            <a:ext cx="9144000" cy="330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Centros de Integración Juvenil, A.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Sistema de Información Epidemiológica del Consumo de Drogas 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(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SIECD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)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                    www.cij.gob.m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F0EF-22AA-4DCA-AFED-6CD0E92BB6A8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6 Rectángulo"/>
          <p:cNvGrpSpPr/>
          <p:nvPr/>
        </p:nvGrpSpPr>
        <p:grpSpPr>
          <a:xfrm>
            <a:off x="-55440" y="755640"/>
            <a:ext cx="9254880" cy="201600"/>
            <a:chOff x="-55440" y="755640"/>
            <a:chExt cx="9254880" cy="201600"/>
          </a:xfrm>
        </p:grpSpPr>
        <p:pic>
          <p:nvPicPr>
            <p:cNvPr id="276" name="6 Rectángulo" descr=""/>
            <p:cNvPicPr/>
            <p:nvPr/>
          </p:nvPicPr>
          <p:blipFill>
            <a:blip r:embed="rId2"/>
            <a:stretch/>
          </p:blipFill>
          <p:spPr>
            <a:xfrm>
              <a:off x="-55440" y="755640"/>
              <a:ext cx="92548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0" y="785880"/>
              <a:ext cx="914400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7 Imagen" descr="logoplata300.png"/>
          <p:cNvPicPr/>
          <p:nvPr/>
        </p:nvPicPr>
        <p:blipFill>
          <a:blip r:embed="rId3"/>
          <a:stretch/>
        </p:blipFill>
        <p:spPr>
          <a:xfrm>
            <a:off x="8223120" y="20520"/>
            <a:ext cx="785880" cy="781200"/>
          </a:xfrm>
          <a:prstGeom prst="rect">
            <a:avLst/>
          </a:prstGeom>
          <a:ln w="0">
            <a:noFill/>
          </a:ln>
        </p:spPr>
      </p:pic>
      <p:sp>
        <p:nvSpPr>
          <p:cNvPr id="279" name="8 Rectángulo"/>
          <p:cNvSpPr/>
          <p:nvPr/>
        </p:nvSpPr>
        <p:spPr>
          <a:xfrm>
            <a:off x="0" y="6500880"/>
            <a:ext cx="9144000" cy="330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Centros de Integración Juvenil, A.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Sistema de Información Epidemiológica del Consumo de Drogas 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(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SIECD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)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                    www.cij.gob.m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E8B0-D3DF-4467-80B4-8C1F3462FFE1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6 Rectángulo"/>
          <p:cNvGrpSpPr/>
          <p:nvPr/>
        </p:nvGrpSpPr>
        <p:grpSpPr>
          <a:xfrm>
            <a:off x="-55440" y="781200"/>
            <a:ext cx="9254880" cy="206280"/>
            <a:chOff x="-55440" y="781200"/>
            <a:chExt cx="9254880" cy="206280"/>
          </a:xfrm>
        </p:grpSpPr>
        <p:pic>
          <p:nvPicPr>
            <p:cNvPr id="322" name="6 Rectángulo" descr=""/>
            <p:cNvPicPr/>
            <p:nvPr/>
          </p:nvPicPr>
          <p:blipFill>
            <a:blip r:embed="rId2"/>
            <a:stretch/>
          </p:blipFill>
          <p:spPr>
            <a:xfrm>
              <a:off x="-55440" y="781200"/>
              <a:ext cx="925488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0" y="812880"/>
              <a:ext cx="914400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7 Imagen" descr="logoplata300.png"/>
          <p:cNvPicPr/>
          <p:nvPr/>
        </p:nvPicPr>
        <p:blipFill>
          <a:blip r:embed="rId3"/>
          <a:stretch/>
        </p:blipFill>
        <p:spPr>
          <a:xfrm>
            <a:off x="8223120" y="20520"/>
            <a:ext cx="785880" cy="781200"/>
          </a:xfrm>
          <a:prstGeom prst="rect">
            <a:avLst/>
          </a:prstGeom>
          <a:ln w="0">
            <a:noFill/>
          </a:ln>
        </p:spPr>
      </p:pic>
      <p:sp>
        <p:nvSpPr>
          <p:cNvPr id="325" name="8 Rectángulo"/>
          <p:cNvSpPr/>
          <p:nvPr/>
        </p:nvSpPr>
        <p:spPr>
          <a:xfrm>
            <a:off x="0" y="6500880"/>
            <a:ext cx="9144000" cy="330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Centros de Integración Juvenil, A.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Sistema de Información Epidemiológica del Consumo de Drogas 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(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SIECD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)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                    www.cij.gob.m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C1C3-0229-4ED9-A9BB-27AB8D33C7D7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6 Rectángulo"/>
          <p:cNvGrpSpPr/>
          <p:nvPr/>
        </p:nvGrpSpPr>
        <p:grpSpPr>
          <a:xfrm>
            <a:off x="-55440" y="755640"/>
            <a:ext cx="9254880" cy="201600"/>
            <a:chOff x="-55440" y="755640"/>
            <a:chExt cx="9254880" cy="201600"/>
          </a:xfrm>
        </p:grpSpPr>
        <p:pic>
          <p:nvPicPr>
            <p:cNvPr id="368" name="6 Rectángulo" descr=""/>
            <p:cNvPicPr/>
            <p:nvPr/>
          </p:nvPicPr>
          <p:blipFill>
            <a:blip r:embed="rId2"/>
            <a:stretch/>
          </p:blipFill>
          <p:spPr>
            <a:xfrm>
              <a:off x="-55440" y="755640"/>
              <a:ext cx="925488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0" y="785880"/>
              <a:ext cx="914400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7 Imagen" descr="logoplata300.png"/>
          <p:cNvPicPr/>
          <p:nvPr/>
        </p:nvPicPr>
        <p:blipFill>
          <a:blip r:embed="rId3"/>
          <a:stretch/>
        </p:blipFill>
        <p:spPr>
          <a:xfrm>
            <a:off x="8223120" y="20520"/>
            <a:ext cx="785880" cy="781200"/>
          </a:xfrm>
          <a:prstGeom prst="rect">
            <a:avLst/>
          </a:prstGeom>
          <a:ln w="0">
            <a:noFill/>
          </a:ln>
        </p:spPr>
      </p:pic>
      <p:sp>
        <p:nvSpPr>
          <p:cNvPr id="371" name="8 Rectángulo"/>
          <p:cNvSpPr/>
          <p:nvPr/>
        </p:nvSpPr>
        <p:spPr>
          <a:xfrm>
            <a:off x="0" y="6500880"/>
            <a:ext cx="9144000" cy="330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Centros de Integración Juvenil, A.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Sistema de Información Epidemiológica del Consumo de Drogas 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(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SIECD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)</a:t>
            </a:r>
            <a:r>
              <a:rPr b="0" lang="es-MX" sz="1000" spc="-1" strike="noStrike">
                <a:solidFill>
                  <a:srgbClr val="0d0d0d"/>
                </a:solidFill>
                <a:latin typeface="Arial Narrow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es-MX" sz="1000" spc="-1" strike="noStrike">
                <a:solidFill>
                  <a:srgbClr val="0d0d0d"/>
                </a:solidFill>
                <a:latin typeface="Arial"/>
                <a:ea typeface="Arial"/>
              </a:rPr>
              <a:t>                    www.cij.gob.m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86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CDA7-12E4-474C-8E4F-795FB376D268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6320" y="16761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675e47"/>
                </a:solidFill>
                <a:latin typeface="Arial"/>
                <a:ea typeface="Arial"/>
              </a:rPr>
              <a:t>CONSUMO DE DROGAS: </a:t>
            </a:r>
            <a:br>
              <a:rPr sz="3100"/>
            </a:br>
            <a:r>
              <a:rPr b="1" lang="es-MX" sz="3100" spc="-1" strike="noStrike">
                <a:solidFill>
                  <a:srgbClr val="675e47"/>
                </a:solidFill>
                <a:latin typeface="Arial"/>
                <a:ea typeface="Arial"/>
              </a:rPr>
              <a:t>UN PROBLEMA DE SALUD PÚBLICA </a:t>
            </a:r>
            <a:endParaRPr b="0" lang="en-US" sz="3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218960" y="4190760"/>
            <a:ext cx="60195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4" name="3 CuadroTexto"/>
          <p:cNvSpPr/>
          <p:nvPr/>
        </p:nvSpPr>
        <p:spPr>
          <a:xfrm>
            <a:off x="0" y="0"/>
            <a:ext cx="8458200" cy="237816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4d4635"/>
                </a:solidFill>
                <a:latin typeface="Arial"/>
              </a:rPr>
              <a:t>Centros de Integración Juvenil A.C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4d4635"/>
                </a:solidFill>
                <a:latin typeface="Arial"/>
              </a:rPr>
              <a:t>CIJ Mérida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6" name="Object 31"/>
          <p:cNvGraphicFramePr/>
          <p:nvPr/>
        </p:nvGraphicFramePr>
        <p:xfrm>
          <a:off x="142920" y="1066680"/>
          <a:ext cx="8758080" cy="516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7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066680"/>
                    <a:ext cx="875808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Calibri"/>
              </a:rPr>
              <a:t>DATOS CONSUMO DE DROGAS  CIJ MÉRIDA </a:t>
            </a:r>
            <a:br>
              <a:rPr sz="2800"/>
            </a:br>
            <a:r>
              <a:rPr b="1" lang="es-MX" sz="2400" spc="-1" strike="noStrike">
                <a:solidFill>
                  <a:srgbClr val="800000"/>
                </a:solidFill>
                <a:latin typeface="Arial"/>
                <a:ea typeface="Arial"/>
              </a:rPr>
              <a:t>PRIMER SEMESTRE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1 Rectángulo"/>
          <p:cNvSpPr/>
          <p:nvPr/>
        </p:nvSpPr>
        <p:spPr>
          <a:xfrm>
            <a:off x="468360" y="1503360"/>
            <a:ext cx="821844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4.5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 hombres por cada muj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45%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 de pacientes entre 15 y 19 años; 22.1% entre 10 y 14 años, 14.8% entre 20 y 24 añ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84.6</a:t>
            </a:r>
            <a:r>
              <a:rPr b="1" lang="es-MX" sz="2000" spc="-1" strike="noStrike">
                <a:solidFill>
                  <a:srgbClr val="10253f"/>
                </a:solidFill>
                <a:latin typeface="Arial"/>
                <a:ea typeface="Arial"/>
              </a:rPr>
              <a:t>% 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solte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Escolaridad: secundaria  (</a:t>
            </a:r>
            <a:r>
              <a:rPr b="1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47.0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%) y bachillerato (23.5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Ocupación: estudia (</a:t>
            </a:r>
            <a:r>
              <a:rPr b="1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42.3%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), trabaja (22.1%), desemple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     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(22.1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0" name="Object 78"/>
          <p:cNvGraphicFramePr/>
          <p:nvPr/>
        </p:nvGraphicFramePr>
        <p:xfrm>
          <a:off x="142920" y="1066680"/>
          <a:ext cx="8758080" cy="516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1" name="Object 7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066680"/>
                    <a:ext cx="875808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Calibri"/>
              </a:rPr>
              <a:t>DATOS CONSUMO DE DROGAS  CIJ MÉRIDA </a:t>
            </a:r>
            <a:br>
              <a:rPr sz="2800"/>
            </a:br>
            <a:r>
              <a:rPr b="1" lang="es-MX" sz="2400" spc="-1" strike="noStrike">
                <a:solidFill>
                  <a:srgbClr val="800000"/>
                </a:solidFill>
                <a:latin typeface="Arial"/>
                <a:ea typeface="Arial"/>
              </a:rPr>
              <a:t>PRIMER SEMESTRE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1 Rectángulo"/>
          <p:cNvSpPr/>
          <p:nvPr/>
        </p:nvSpPr>
        <p:spPr>
          <a:xfrm>
            <a:off x="468360" y="1503360"/>
            <a:ext cx="821844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Edad de inicio del uso de sustanci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Tabaco: 10-14 años (</a:t>
            </a:r>
            <a:r>
              <a:rPr b="1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46.3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%) 15-19 años (22.1%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Alcohol: 10-14 años (</a:t>
            </a:r>
            <a:r>
              <a:rPr b="1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38.9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%) 15-19 años  (36.2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Drogas ilícitas: 10-14 años (38.3%) 15-19 años (</a:t>
            </a:r>
            <a:r>
              <a:rPr b="1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40.9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   </a:t>
            </a:r>
            <a:r>
              <a:rPr b="1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Tipo de consum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Experimental       11.4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Ocasional            28.2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Funcional            47.0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10253f"/>
                </a:solidFill>
                <a:latin typeface="Arial"/>
                <a:ea typeface="Arial"/>
              </a:rPr>
              <a:t>Disfuncional          9.4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0253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4" name="Object 88"/>
          <p:cNvGraphicFramePr/>
          <p:nvPr/>
        </p:nvGraphicFramePr>
        <p:xfrm>
          <a:off x="233280" y="1109520"/>
          <a:ext cx="8758440" cy="516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5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109520"/>
                    <a:ext cx="875844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Calibri"/>
              </a:rPr>
              <a:t>DATOS CONSUMO DE DROGAS  CIJ MÉRIDA </a:t>
            </a:r>
            <a:br>
              <a:rPr sz="2800"/>
            </a:br>
            <a:r>
              <a:rPr b="1" lang="es-MX" sz="2400" spc="-1" strike="noStrike">
                <a:solidFill>
                  <a:srgbClr val="800000"/>
                </a:solidFill>
                <a:latin typeface="Arial"/>
                <a:ea typeface="Arial"/>
              </a:rPr>
              <a:t>PRIMER SEMESTRE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1 Rectángulo"/>
          <p:cNvSpPr/>
          <p:nvPr/>
        </p:nvSpPr>
        <p:spPr>
          <a:xfrm>
            <a:off x="696960" y="1612800"/>
            <a:ext cx="82184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0253f"/>
                </a:solidFill>
                <a:latin typeface="Arial"/>
                <a:ea typeface="Arial"/>
              </a:rPr>
              <a:t>Principales drogas de uso alguna vez en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1981080" y="2298600"/>
          <a:ext cx="4953240" cy="3413160"/>
        </p:xfrm>
        <a:graphic>
          <a:graphicData uri="http://schemas.openxmlformats.org/drawingml/2006/table">
            <a:tbl>
              <a:tblPr/>
              <a:tblGrid>
                <a:gridCol w="2667240"/>
                <a:gridCol w="228600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Cannab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76.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Inhalabl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37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Cocaí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26.2%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crack 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22.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Benzodiacepin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20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Éxtasis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9.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Alucinógenos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7.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9" name="Object 82"/>
          <p:cNvGraphicFramePr/>
          <p:nvPr/>
        </p:nvGraphicFramePr>
        <p:xfrm>
          <a:off x="233280" y="1109520"/>
          <a:ext cx="8758440" cy="516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0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109520"/>
                    <a:ext cx="875844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Calibri"/>
              </a:rPr>
              <a:t>DATOS CONSUMO DE DROGAS  CIJ MÉRIDA </a:t>
            </a:r>
            <a:br>
              <a:rPr sz="2800"/>
            </a:br>
            <a:r>
              <a:rPr b="1" lang="es-MX" sz="2400" spc="-1" strike="noStrike">
                <a:solidFill>
                  <a:srgbClr val="800000"/>
                </a:solidFill>
                <a:latin typeface="Arial"/>
                <a:ea typeface="Arial"/>
              </a:rPr>
              <a:t>PRIMER SEMESTRE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1 Rectángulo"/>
          <p:cNvSpPr/>
          <p:nvPr/>
        </p:nvSpPr>
        <p:spPr>
          <a:xfrm>
            <a:off x="696960" y="1612800"/>
            <a:ext cx="821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0253f"/>
                </a:solidFill>
                <a:latin typeface="Arial"/>
                <a:ea typeface="Arial"/>
              </a:rPr>
              <a:t>Principales drogas ilícitas de in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2286000" y="2298600"/>
          <a:ext cx="4876920" cy="3413160"/>
        </p:xfrm>
        <a:graphic>
          <a:graphicData uri="http://schemas.openxmlformats.org/drawingml/2006/table">
            <a:tbl>
              <a:tblPr/>
              <a:tblGrid>
                <a:gridCol w="2625840"/>
                <a:gridCol w="22510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Cannab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71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Inhalabl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12.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Cocaí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4.0%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crack 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2.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Benzodiacepin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7.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Extasis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	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0.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Alucinógenos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Object 62"/>
          <p:cNvGraphicFramePr/>
          <p:nvPr/>
        </p:nvGraphicFramePr>
        <p:xfrm>
          <a:off x="233280" y="1109520"/>
          <a:ext cx="8758440" cy="516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5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109520"/>
                    <a:ext cx="875844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001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Calibri"/>
              </a:rPr>
              <a:t>DATOS CONSUMO DE DROGAS  CIJ MÉRIDA </a:t>
            </a:r>
            <a:br>
              <a:rPr sz="2800"/>
            </a:br>
            <a:r>
              <a:rPr b="1" lang="es-MX" sz="2400" spc="-1" strike="noStrike">
                <a:solidFill>
                  <a:srgbClr val="800000"/>
                </a:solidFill>
                <a:latin typeface="Arial"/>
                <a:ea typeface="Arial"/>
              </a:rPr>
              <a:t>PRIMER SEMESTRE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1 Rectángulo"/>
          <p:cNvSpPr/>
          <p:nvPr/>
        </p:nvSpPr>
        <p:spPr>
          <a:xfrm>
            <a:off x="696960" y="1612800"/>
            <a:ext cx="821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10253f"/>
                </a:solidFill>
                <a:latin typeface="Arial"/>
                <a:ea typeface="Arial"/>
              </a:rPr>
              <a:t>Principales drogas de mayor 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2286000" y="2298600"/>
          <a:ext cx="4876920" cy="3413160"/>
        </p:xfrm>
        <a:graphic>
          <a:graphicData uri="http://schemas.openxmlformats.org/drawingml/2006/table">
            <a:tbl>
              <a:tblPr/>
              <a:tblGrid>
                <a:gridCol w="2625840"/>
                <a:gridCol w="22510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Cannab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32.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Inhalabl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24.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Cocaí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6.0%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crack 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6.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Benzodiacepin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s-MX" sz="2200" spc="-1" strike="noStrike">
                          <a:solidFill>
                            <a:srgbClr val="10253f"/>
                          </a:solidFill>
                          <a:latin typeface="Arial"/>
                          <a:ea typeface="Arial"/>
                        </a:rPr>
                        <a:t>6.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bac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0253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s-MX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0253f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cohol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0253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s-MX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0253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686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nforme Anual a la Comun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1981080"/>
          </a:xfrm>
          <a:prstGeom prst="rect">
            <a:avLst/>
          </a:prstGeom>
          <a:ln w="0">
            <a:noFill/>
          </a:ln>
        </p:spPr>
      </p:pic>
      <p:sp>
        <p:nvSpPr>
          <p:cNvPr id="631" name="5 CuadroTexto"/>
          <p:cNvSpPr/>
          <p:nvPr/>
        </p:nvSpPr>
        <p:spPr>
          <a:xfrm>
            <a:off x="609480" y="34290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forme Patron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ar a conocer a autoridades, sector privado y social y a la comunidad en general sobre las actividades realizadas en apoyo a los programas institucionales de C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2 CuadroTexto"/>
          <p:cNvSpPr/>
          <p:nvPr/>
        </p:nvSpPr>
        <p:spPr>
          <a:xfrm>
            <a:off x="0" y="204840"/>
            <a:ext cx="845820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800000"/>
                </a:solidFill>
                <a:uFillTx/>
                <a:latin typeface="Arial"/>
              </a:rPr>
              <a:t>ENCUESTA NACIONAL DE ADICCIONES 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TABA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e estiman 17.3 millones de mexica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ntre 12 y 65 años  fumadores activ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[12 millones de hombres y 5.2 millones de mujer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prevalencia más alta: Distrito Fede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s prevalencias más bajas: región Centro Sur y S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os fumadores activos entre 12 y 65 añ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ician a 20.4 años, consumen 6.5 cigarrillos di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2 CuadroTexto"/>
          <p:cNvSpPr/>
          <p:nvPr/>
        </p:nvSpPr>
        <p:spPr>
          <a:xfrm>
            <a:off x="0" y="76320"/>
            <a:ext cx="8381880" cy="70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800000"/>
                </a:solidFill>
                <a:uFillTx/>
                <a:latin typeface="Arial"/>
              </a:rPr>
              <a:t>ENCUESTA NACIONAL DE ADICCIONES 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TABA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1.5 millones de fumadores activos tienen adi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[1.2 millones hombres y 300 mil mujer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1.7 millones de adolescentes son fumadores activ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58.4% tuvo el propósito de cesar el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principal  razón para abandonar su u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 darse cuenta del daño a la salud (34.3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2 CuadroTexto"/>
          <p:cNvSpPr/>
          <p:nvPr/>
        </p:nvSpPr>
        <p:spPr>
          <a:xfrm>
            <a:off x="76320" y="139680"/>
            <a:ext cx="8381880" cy="74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800000"/>
                </a:solidFill>
                <a:uFillTx/>
                <a:latin typeface="Arial"/>
              </a:rPr>
              <a:t>ENCUESTA NACIONAL DE ADICCIONES 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ALCOHO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40.9 millones de mexicanos han usado el último añ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y 25.1 millones el último 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4.9 millones tienen dependencia al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consumo de altas cantidades por ocas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s el patrón de consumo más report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53.6% de adultos entre 18 y 34 añ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han tenido al menos un episodio de alto consu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2 CuadroTexto"/>
          <p:cNvSpPr/>
          <p:nvPr/>
        </p:nvSpPr>
        <p:spPr>
          <a:xfrm>
            <a:off x="76320" y="504720"/>
            <a:ext cx="8381880" cy="76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800000"/>
                </a:solidFill>
                <a:uFillTx/>
                <a:latin typeface="Arial"/>
              </a:rPr>
              <a:t>ENCUESTA NACIONAL DE ADICCIONES 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ALCOHO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</a:rPr>
              <a:t>cerveza es la bebida de preferenc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</a:rPr>
              <a:t>en segundo lugar destil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</a:rPr>
              <a:t>La edad de inicio son 17 añ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</a:rPr>
              <a:t>en población entre 12 y 65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</a:rPr>
              <a:t>La región Centro tiene los índices de uso más al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</a:rPr>
              <a:t>Los más bajos: región Nororiental, Centro Sur y S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2 CuadroTexto"/>
          <p:cNvSpPr/>
          <p:nvPr/>
        </p:nvSpPr>
        <p:spPr>
          <a:xfrm>
            <a:off x="0" y="466560"/>
            <a:ext cx="8381880" cy="68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800000"/>
                </a:solidFill>
                <a:uFillTx/>
                <a:latin typeface="Arial"/>
              </a:rPr>
              <a:t>ENCUESTA NACIONAL DE ADICCIONES 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DROGAS ILICITA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6.2 millones de personas han usado alguna v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lguna droga ilíc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5.7 millones han usado sustancias ilíci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mariguana y cocaína son las más us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1.1 millones han usado drogas médicas sin prescripción. Las de mayor uso: tranquiliza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2 CuadroTexto"/>
          <p:cNvSpPr/>
          <p:nvPr/>
        </p:nvSpPr>
        <p:spPr>
          <a:xfrm>
            <a:off x="76320" y="379440"/>
            <a:ext cx="8305560" cy="64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800000"/>
                </a:solidFill>
                <a:uFillTx/>
                <a:latin typeface="Arial"/>
              </a:rPr>
              <a:t>ENCUESTA NACIONAL DE ADICCIONES 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DROGAS ILÍCITA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mitad de los usuarios iniciaron el consu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ntes de los 18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razón es de 4.1 hombres por cada muj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población con mayor consumo tie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ntre 18 y 34 años de eda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2 CuadroTexto"/>
          <p:cNvSpPr/>
          <p:nvPr/>
        </p:nvSpPr>
        <p:spPr>
          <a:xfrm>
            <a:off x="76320" y="331920"/>
            <a:ext cx="8381880" cy="82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800000"/>
                </a:solidFill>
                <a:uFillTx/>
                <a:latin typeface="Arial"/>
              </a:rPr>
              <a:t>ENCUESTA NACIONAL DE ADICCIONES 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DROGAS ILÍCITA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xisten más de 550 mil personas dependientes de drogas que requieren trata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olo 137 mil personas  lo han recibi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una de cada 5 persona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</a:rPr>
              <a:t>35.0% tratamiento completo con un profesioni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</a:rPr>
              <a:t>22.1% tratamiento parcial con un profesioni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2b20"/>
                </a:solidFill>
                <a:latin typeface="Arial"/>
              </a:rPr>
              <a:t>14.9% grupos de ayuda mut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2" name="Object 90"/>
          <p:cNvGraphicFramePr/>
          <p:nvPr/>
        </p:nvGraphicFramePr>
        <p:xfrm>
          <a:off x="233280" y="1066680"/>
          <a:ext cx="8758440" cy="516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3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066680"/>
                    <a:ext cx="875844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1 Rectángulo"/>
          <p:cNvSpPr/>
          <p:nvPr/>
        </p:nvSpPr>
        <p:spPr>
          <a:xfrm>
            <a:off x="468360" y="1503360"/>
            <a:ext cx="821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2 Rectángulo"/>
          <p:cNvSpPr/>
          <p:nvPr/>
        </p:nvSpPr>
        <p:spPr>
          <a:xfrm>
            <a:off x="1295280" y="2766960"/>
            <a:ext cx="6477120" cy="22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Calibri"/>
              </a:rPr>
              <a:t>DATOS CONSUMO DE DROG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800000"/>
                </a:solidFill>
                <a:latin typeface="Calibri"/>
              </a:rPr>
              <a:t>CENTRO DE INTEGRACIÓN JUVENIL  MÉRID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MX" sz="2600" spc="-1" strike="noStrike">
                <a:solidFill>
                  <a:srgbClr val="006600"/>
                </a:solidFill>
                <a:latin typeface="Arial"/>
                <a:ea typeface="Arial"/>
              </a:rPr>
              <a:t>PRIMER SEMESTRE 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1:01:39Z</dcterms:created>
  <dc:creator>Regnar Kristensen</dc:creator>
  <dc:description/>
  <dc:language>en-US</dc:language>
  <cp:lastModifiedBy>HOME</cp:lastModifiedBy>
  <dcterms:modified xsi:type="dcterms:W3CDTF">2015-10-27T04:43:34Z</dcterms:modified>
  <cp:revision>863</cp:revision>
  <dc:subject/>
  <dc:title>Evaluación del Programa Piloto de Estrategias de Prevención Escolar   David Bruno Diaz Negrete Sara Elisa Gracia Gutiérrez de Velasco  Centros de Integración Juvenil A.C. Dirección de Investigación y Enseñanza Subdirección de Investigación  San José, Costa Rica, febrero de 2005</dc:title>
</cp:coreProperties>
</file>