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jpeg" ContentType="image/jpeg"/>
  <Override PartName="/ppt/media/image28.png" ContentType="image/png"/>
  <Override PartName="/ppt/media/image27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FA6-F3AE-4F0B-95E0-296F35A8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1E3-7BEF-4845-A024-3D81164A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C22F-AAB5-4623-BD4D-71DCC944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185-2A67-4504-88D1-C2744916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B13B-2103-40C5-BB31-C6983045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4DB-043F-480A-A20D-6D3F08B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02D-5A83-4DA9-89E7-FF656DD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F21-531E-49AC-86AB-1281303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E83-69B1-4AA7-A6A6-5E222449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F1C-CCF6-455E-8152-2D09A85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0AA-0D11-4B86-8867-B15F9DB5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CFA-4F79-4522-BAB4-EFD1C18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DBD3-C00C-4C6A-8C4C-D86A7255DE17}" type="slidenum">
              <a:rPr b="0" lang="es-E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Oferta de Tratamiento en Adicciones. Yucatá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LTS Víctor Román Roa Muño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omic Sans MS"/>
              </a:rPr>
              <a:t>Centros de Integración Juvenil, A. 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érida, Yuc. Mayo de 2014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3687840" cy="68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85480" y="928440"/>
            <a:ext cx="3714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 algn="just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Investigación documental y de campo sobre los centros de tratamiento existentes en la entida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Realización de las visitas y llenado de la cédul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Book Antiqua"/>
              </a:rPr>
              <a:t>Invitar e incorporar a los responsables de los Centros a las reuniones de la vocalí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</a:rPr>
              <a:t>__________________________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18 Centros identificado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Book Antiqua"/>
              </a:rPr>
              <a:t>23 en 2011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17 Visitado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Book Antiqua"/>
              </a:rPr>
              <a:t>Todos visitado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 algn="just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14 Mérida </a:t>
            </a:r>
            <a:r>
              <a:rPr b="1" lang="es-MX" sz="1800" spc="-1" strike="noStrike">
                <a:solidFill>
                  <a:srgbClr val="ffff00"/>
                </a:solidFill>
                <a:latin typeface="Book Antiqua"/>
              </a:rPr>
              <a:t>+ 4</a:t>
            </a:r>
            <a:r>
              <a:rPr b="1" lang="es-MX" sz="1800" spc="-1" strike="noStrike">
                <a:solidFill>
                  <a:srgbClr val="ffffff"/>
                </a:solidFill>
                <a:latin typeface="Book Antiqua"/>
              </a:rPr>
              <a:t>, 1 Chelem, 1 Chixchulub Pto., 1 Uaymitún, 1 Valladolid, </a:t>
            </a:r>
            <a:r>
              <a:rPr b="1" lang="es-MX" sz="1800" spc="-1" strike="noStrike">
                <a:solidFill>
                  <a:srgbClr val="ffff00"/>
                </a:solidFill>
                <a:latin typeface="Book Antiqua"/>
              </a:rPr>
              <a:t>1 Tizimí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89000"/>
          <a:ext cx="4038480" cy="610056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entro, Albergue o Anexo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39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Centro de Recuperación y Rehabilitación para Enfermos de Alcoholismo y Drogadicción, A. C. (CRREAD) . </a:t>
                      </a:r>
                      <a:r>
                        <a:rPr b="1" lang="es-MX" sz="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s-MX" sz="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Cerró en 201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839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Un Nuevo Despertar a la Vida, A. C. </a:t>
                      </a:r>
                      <a:r>
                        <a:rPr b="1" lang="es-MX" sz="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(Cerró en 201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Aprendiendo a Vivir en Libertad, A. C.  (Chelem)  </a:t>
                      </a:r>
                      <a:r>
                        <a:rPr b="1" lang="es-MX" sz="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(Cerró en 201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Anexo Maya El Salvador, A. C. </a:t>
                      </a: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Uaymitún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 Centro de Rehabilitación para Enfermos Alcohólicos y Drogadictos, A. C. Cottolengo</a:t>
                      </a: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7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 Alcance Victoria, A. C. Centr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 Centro de Rehabilitación El Taller del Maestro, A. C.</a:t>
                      </a: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 Albergue Cristiano de la Fundación Emmanuel. Pension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 Volviendo a Vivir en Libertad, A. C. (Chixchulub Pto.) </a:t>
                      </a:r>
                      <a:r>
                        <a:rPr b="1" lang="es-MX" sz="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(Cerró en 201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476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La Gloria de Sta. Isabel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 Drogadictos Anónimos, A. C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3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 Jóvenes Mérida de A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39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 Clínica de Atención Integral y Rehabilitación para personas con problemas adictivos (CAYRAD)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 Albergue “Puerta al Cielo”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 Hogar Infantil y Centro de Rehabilitación “Ciudad de Refugio, A. C.” </a:t>
                      </a:r>
                      <a:r>
                        <a:rPr b="1" lang="es-ES" sz="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Cambio de domicilio y razón social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 Centro de Rehabilitación para Alcohólicos y Drogadictos “San Camilo de Lelis” (Valladolid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7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 Centro de Atención Integral de Adicciones de la Cruz Roja (*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. Anexo Maya San Cristóbal, A. C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19. Centro de Rehabilitación y Tratamiento de las Adicciones (CRETA) “Un Nuevo Despertar, A. C.”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20.Centro de Rehabilitación para Alcohólicos y Drogadictos. Fundación Resurgir, A. C. (Abre en 2010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699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21.  Querer es Poder 24 Horas A. C. (Tizimín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97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22. Anexo y Terapia Intensiva 24 Horas. “La Divina Misericordia”  (Valladolid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405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23. Centro de Atención Especializado de Alcoholismo, Drogadicción y Neurosis de Campeche, A. C. (Progreso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Título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3975120" cy="646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Book Antiqua"/>
              </a:rPr>
              <a:t>Sí = 6 (35.2%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Book Antiqua"/>
              </a:rPr>
              <a:t>No = 11 (64.7%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13840" y="1285560"/>
            <a:ext cx="4071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</a:rPr>
              <a:t>Conoce la NOM-028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</a:rPr>
              <a:t>Servicio dirigido a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Hombres = 11 (64.7%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Mixto = 6 (35.2%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MX" sz="2000" spc="-1" strike="noStrike" u="sng">
                <a:solidFill>
                  <a:srgbClr val="ffffff"/>
                </a:solidFill>
                <a:uFillTx/>
                <a:latin typeface="Book Antiqua"/>
              </a:rPr>
              <a:t>Sólo uno cuenta con instalaciones adecuadas para dar esta servici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Mujeres = 0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5" name="Picture 7" descr="C:\Documents and Settings\Lic.Victor\Mis documentos\CEPA\fotos albergues\S7300847.JPG"/>
          <p:cNvPicPr/>
          <p:nvPr/>
        </p:nvPicPr>
        <p:blipFill>
          <a:blip r:embed="rId2"/>
          <a:stretch/>
        </p:blipFill>
        <p:spPr>
          <a:xfrm>
            <a:off x="4643280" y="142920"/>
            <a:ext cx="4038840" cy="3071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Lic.Victor\Mis documentos\CEPA\fotos albergues\S7300827.JPG"/>
          <p:cNvPicPr/>
          <p:nvPr/>
        </p:nvPicPr>
        <p:blipFill>
          <a:blip r:embed="rId3"/>
          <a:stretch/>
        </p:blipFill>
        <p:spPr>
          <a:xfrm>
            <a:off x="4643280" y="3643200"/>
            <a:ext cx="4038840" cy="30006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859280" y="27813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prendiendo a Vivir en Libertad, A. C. Chelem  </a:t>
            </a:r>
            <a:r>
              <a:rPr b="1" lang="es-MX" sz="1200" spc="-1" strike="noStrike">
                <a:solidFill>
                  <a:srgbClr val="ff0000"/>
                </a:solidFill>
                <a:latin typeface="Arial"/>
                <a:ea typeface="Arial"/>
              </a:rPr>
              <a:t>(Cerró en 2010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5148360" y="63817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Oficinas Fund. Emmanuel de Mérida, A.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6 Título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3102120" cy="1157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7 No están constituidos legalmente (41.1%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6 dependen de una Organización Nacional o Internacional (35.2%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4 constituidos legalmente (23.5%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5" descr="C:\Documents and Settings\Lic.Victor\Mis documentos\CEPA\fotos albergues\S7301611.JPG"/>
          <p:cNvPicPr/>
          <p:nvPr/>
        </p:nvPicPr>
        <p:blipFill>
          <a:blip r:embed="rId2"/>
          <a:stretch/>
        </p:blipFill>
        <p:spPr>
          <a:xfrm>
            <a:off x="3575160" y="1282680"/>
            <a:ext cx="5111640" cy="3834000"/>
          </a:xfrm>
          <a:prstGeom prst="rect">
            <a:avLst/>
          </a:prstGeom>
          <a:ln w="0">
            <a:noFill/>
          </a:ln>
        </p:spPr>
      </p:pic>
      <p:sp>
        <p:nvSpPr>
          <p:cNvPr id="92" name="4 CuadroTexto"/>
          <p:cNvSpPr/>
          <p:nvPr/>
        </p:nvSpPr>
        <p:spPr>
          <a:xfrm>
            <a:off x="3635280" y="4724280"/>
            <a:ext cx="360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Centro de Rehabilitación “El Taller del Maestro, A. C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4 Título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573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14200" y="1285560"/>
            <a:ext cx="8786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apacitación en la NOM-028 </a:t>
            </a:r>
            <a:r>
              <a:rPr b="0" lang="es-MX" sz="2800" spc="-1" strike="noStrike">
                <a:solidFill>
                  <a:srgbClr val="ffff00"/>
                </a:solidFill>
                <a:latin typeface="Book Antiqua"/>
              </a:rPr>
              <a:t>(Cumplida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Otorgar asesoría legal </a:t>
            </a:r>
            <a:r>
              <a:rPr b="0" lang="es-MX" sz="2800" spc="-1" strike="noStrike">
                <a:solidFill>
                  <a:srgbClr val="ffff00"/>
                </a:solidFill>
                <a:latin typeface="Book Antiqua"/>
              </a:rPr>
              <a:t>(Permanen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sistencia médica </a:t>
            </a:r>
            <a:r>
              <a:rPr b="0" lang="es-MX" sz="2800" spc="-1" strike="noStrike">
                <a:solidFill>
                  <a:srgbClr val="ffff00"/>
                </a:solidFill>
                <a:latin typeface="Book Antiqua"/>
              </a:rPr>
              <a:t>(Permanen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sistencia psicológica </a:t>
            </a:r>
            <a:r>
              <a:rPr b="0" i="1" lang="es-MX" sz="2800" spc="-1" strike="noStrike">
                <a:solidFill>
                  <a:srgbClr val="ffff00"/>
                </a:solidFill>
                <a:latin typeface="Book Antiqua"/>
              </a:rPr>
              <a:t>(Acompañamiento Psicológico por estudiantes de </a:t>
            </a:r>
            <a:r>
              <a:rPr b="1" i="1" lang="es-MX" sz="2800" spc="-1" strike="noStrike">
                <a:solidFill>
                  <a:srgbClr val="ffff00"/>
                </a:solidFill>
                <a:latin typeface="Book Antiqua"/>
              </a:rPr>
              <a:t>Kanankil</a:t>
            </a:r>
            <a:r>
              <a:rPr b="0" i="1" lang="es-MX" sz="2800" spc="-1" strike="noStrike">
                <a:solidFill>
                  <a:srgbClr val="ffff00"/>
                </a:solidFill>
                <a:latin typeface="Book Antiqua"/>
              </a:rPr>
              <a:t>, </a:t>
            </a:r>
            <a:r>
              <a:rPr b="1" i="1" lang="es-MX" sz="2800" spc="-1" strike="noStrike">
                <a:solidFill>
                  <a:srgbClr val="ffff00"/>
                </a:solidFill>
                <a:latin typeface="Book Antiqua"/>
              </a:rPr>
              <a:t>CELA</a:t>
            </a:r>
            <a:r>
              <a:rPr b="0" i="1" lang="es-MX" sz="2800" spc="-1" strike="noStrike">
                <a:solidFill>
                  <a:srgbClr val="ffff00"/>
                </a:solidFill>
                <a:latin typeface="Book Antiqua"/>
              </a:rPr>
              <a:t> y </a:t>
            </a:r>
            <a:r>
              <a:rPr b="1" i="1" lang="es-MX" sz="2800" spc="-1" strike="noStrike">
                <a:solidFill>
                  <a:srgbClr val="ffff00"/>
                </a:solidFill>
                <a:latin typeface="Book Antiqua"/>
              </a:rPr>
              <a:t>Voluntarios de CIJ</a:t>
            </a:r>
            <a:r>
              <a:rPr b="0" i="1" lang="es-MX" sz="2800" spc="-1" strike="noStrike">
                <a:solidFill>
                  <a:srgbClr val="ffff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stión de apoyos en especie </a:t>
            </a:r>
            <a:r>
              <a:rPr b="0" lang="es-MX" sz="2800" spc="-1" strike="noStrike">
                <a:solidFill>
                  <a:srgbClr val="ffff00"/>
                </a:solidFill>
                <a:latin typeface="Book Antiqua"/>
              </a:rPr>
              <a:t>(En proceso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Book Antiqua"/>
              </a:rPr>
              <a:t>Actualmente en Proceso de Certificación por el CONADIC-CENADIC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Lic.Victor\Mis documentos\Mis imágenes\Inv1.jpg"/>
          <p:cNvPicPr/>
          <p:nvPr/>
        </p:nvPicPr>
        <p:blipFill>
          <a:blip r:embed="rId2"/>
          <a:stretch/>
        </p:blipFill>
        <p:spPr>
          <a:xfrm>
            <a:off x="468360" y="1628640"/>
            <a:ext cx="8136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42920" y="99972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Ley General de Salu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glamento de la Ley General de Salud en Materia de Prestación de Servicios de Atención Médic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NOM-028-SSA2-200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Book Antiqua"/>
              </a:rPr>
              <a:t>Objetivo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“…establecer los procedimientos y criterios para la atención integral de las adiccione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Book Antiqua"/>
              </a:rPr>
              <a:t>Campo de aplicación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… es de observancia obligatoria en todo el territorio nacional para los prestadores de servicios de salud del SNS y en los establecimientos de los sectores público, social y privado que realicen actividades preventivas, de tratamiento, rehabilitación y reinserción social, reducción del daño, investigación, capacitación y enseñanza o de control de las adicciones”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712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6840" y="2356920"/>
            <a:ext cx="29718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Book Antiqua"/>
              </a:rPr>
              <a:t>Profesiona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Book Antiqua"/>
              </a:rPr>
              <a:t>Autoayud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Book Antiqua"/>
              </a:rPr>
              <a:t>Mixto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Book Antiqua"/>
              </a:rPr>
              <a:t>Alternativ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6" name="Picture 18" descr="C:\Documents and Settings\Lic.Victor\Mis documentos\CEPA\fotos albergues\S7300816.JPG"/>
          <p:cNvPicPr/>
          <p:nvPr/>
        </p:nvPicPr>
        <p:blipFill>
          <a:blip r:embed="rId2"/>
          <a:stretch/>
        </p:blipFill>
        <p:spPr>
          <a:xfrm>
            <a:off x="3500280" y="78588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Lic.Victor\Mis documentos\CEPA\fotos albergues\S7300832.JPG"/>
          <p:cNvPicPr/>
          <p:nvPr/>
        </p:nvPicPr>
        <p:blipFill>
          <a:blip r:embed="rId3"/>
          <a:stretch/>
        </p:blipFill>
        <p:spPr>
          <a:xfrm>
            <a:off x="5715000" y="3214800"/>
            <a:ext cx="3286080" cy="2428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Documents and Settings\Lic.Victor\Mis documentos\CEPA\fotos albergues\S7301605.JPG"/>
          <p:cNvPicPr/>
          <p:nvPr/>
        </p:nvPicPr>
        <p:blipFill>
          <a:blip r:embed="rId4"/>
          <a:stretch/>
        </p:blipFill>
        <p:spPr>
          <a:xfrm>
            <a:off x="1928880" y="4572000"/>
            <a:ext cx="3714840" cy="2214720"/>
          </a:xfrm>
          <a:prstGeom prst="rect">
            <a:avLst/>
          </a:prstGeom>
          <a:ln w="0">
            <a:noFill/>
          </a:ln>
        </p:spPr>
      </p:pic>
      <p:sp>
        <p:nvSpPr>
          <p:cNvPr id="49" name="6 CuadroTexto"/>
          <p:cNvSpPr/>
          <p:nvPr/>
        </p:nvSpPr>
        <p:spPr>
          <a:xfrm>
            <a:off x="6072120" y="535788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Alcance Victoria”, A. C. Centr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Título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791560" cy="114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Book Antiqua"/>
              </a:rPr>
              <a:t>Decreto Núm. 85 (26 de mayo de 2008. Diario Oficial del Gobierno del Edo. de Yucatán). Reglamento Interno.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Book Antiqua"/>
              </a:rPr>
              <a:t>Facultades y obligaciones de la Vocalía de Tx, Seg. y RS: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Emitir recomendaciones para que los adictos o usuarios de drogas, alcohol o tabaco sean canalizados a las instituciones pertinentes que proporcionen tratamiento hospitalario, psicológico o psiquiátric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</a:rPr>
              <a:t>Analizar y proponer las mejoras necesarias a los procesos realizados por los diferentes centros de atención de tratamient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Llevar un registro de control sobre la evolución, continuidad y alta de los pacientes que hayan sido canalizados a las institucion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</a:rPr>
              <a:t>Informar al Consejo de las actividades realizada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resentar alternativas de solución a la problemática detectad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Título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71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052640"/>
            <a:ext cx="4040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Book Antiqua"/>
              </a:rPr>
              <a:t>DX 2008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4720" y="980640"/>
            <a:ext cx="431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SITUACIÓN ACTUAL 2011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844640"/>
            <a:ext cx="4040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Book Antiqua"/>
              </a:rPr>
              <a:t>No se cuenta con un directorio real y actualizado de los Centros que ofrecen servicios de tratamiento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Book Antiqua"/>
              </a:rPr>
              <a:t>Carencia de regulación legal y sanitaria de los Centros que ofrecen algún tipo de Tx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Book Antiqua"/>
              </a:rPr>
              <a:t>No contar con datos estadísticos aproximados de las personas que se atienden por consumo de drogas a nivel estatal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Book Antiqua"/>
              </a:rPr>
              <a:t>Falta de capacitación y actualización en materia de adicciones a los responsables de los Centros de tratamiento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ffffff"/>
                </a:solidFill>
                <a:latin typeface="Book Antiqua"/>
              </a:rPr>
              <a:t>Crear y consolidar la Red de Atención Médica, Psicológica y de Autoayuda de las Adicciones del Estado de Yucatán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4720" y="1844280"/>
            <a:ext cx="43196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ook Antiqua"/>
              </a:rPr>
              <a:t>Se cuenta con un directorio de Establecimientos, se actualiza de manera permanent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ook Antiqua"/>
              </a:rPr>
              <a:t>Conocimiento de la NOM 028, en proceso la Reglamentació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ook Antiqua"/>
              </a:rPr>
              <a:t>Se tiene un aproximado de las personas que se encuentran en los Establecimiento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ook Antiqua"/>
              </a:rPr>
              <a:t>Proceso de Capacitación Permanente (Vocalías de Urgencias y Tx, DSM, CONADIC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Book Antiqua"/>
              </a:rPr>
              <a:t>En proceso la conformación de la Re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 Título" descr=""/>
          <p:cNvPicPr/>
          <p:nvPr/>
        </p:nvPicPr>
        <p:blipFill>
          <a:blip r:embed="rId1"/>
          <a:stretch/>
        </p:blipFill>
        <p:spPr>
          <a:xfrm>
            <a:off x="4645080" y="274680"/>
            <a:ext cx="4041720" cy="65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Documents and Settings\Lic.Victor\Mis documentos\CEPA\fotos albergues\S7301682.JPG"/>
          <p:cNvPicPr/>
          <p:nvPr/>
        </p:nvPicPr>
        <p:blipFill>
          <a:blip r:embed="rId2"/>
          <a:stretch/>
        </p:blipFill>
        <p:spPr>
          <a:xfrm>
            <a:off x="357120" y="21420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Documents and Settings\Lic.Victor\Mis documentos\CEPA\fotos albergues\S7300808.JPG"/>
          <p:cNvPicPr/>
          <p:nvPr/>
        </p:nvPicPr>
        <p:blipFill>
          <a:blip r:embed="rId3"/>
          <a:stretch/>
        </p:blipFill>
        <p:spPr>
          <a:xfrm>
            <a:off x="4716360" y="357336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Lic.Victor\Mis documentos\CEPA\fotos albergues\S7301609.JPG"/>
          <p:cNvPicPr/>
          <p:nvPr/>
        </p:nvPicPr>
        <p:blipFill>
          <a:blip r:embed="rId4"/>
          <a:stretch/>
        </p:blipFill>
        <p:spPr>
          <a:xfrm>
            <a:off x="5000760" y="1071720"/>
            <a:ext cx="3752640" cy="2428560"/>
          </a:xfrm>
          <a:prstGeom prst="rect">
            <a:avLst/>
          </a:prstGeom>
          <a:ln w="0">
            <a:noFill/>
          </a:ln>
        </p:spPr>
      </p:pic>
      <p:sp>
        <p:nvSpPr>
          <p:cNvPr id="61" name="12 CuadroTexto"/>
          <p:cNvSpPr/>
          <p:nvPr/>
        </p:nvSpPr>
        <p:spPr>
          <a:xfrm>
            <a:off x="1357200" y="2928960"/>
            <a:ext cx="192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Albergue Cd. Refugio, A. C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13 CuadroTexto"/>
          <p:cNvSpPr/>
          <p:nvPr/>
        </p:nvSpPr>
        <p:spPr>
          <a:xfrm>
            <a:off x="4643280" y="6286680"/>
            <a:ext cx="403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Proyecto de Restauración del Centro de Atención Integral de Adicciones Cruz Roja (Parte posterior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14 CuadroTexto"/>
          <p:cNvSpPr/>
          <p:nvPr/>
        </p:nvSpPr>
        <p:spPr>
          <a:xfrm>
            <a:off x="5143680" y="3214800"/>
            <a:ext cx="2643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MX" sz="1000" spc="-1" strike="noStrike">
                <a:solidFill>
                  <a:srgbClr val="000000"/>
                </a:solidFill>
                <a:latin typeface="Arial"/>
                <a:ea typeface="Arial"/>
              </a:rPr>
              <a:t>Un Nuevo Despertar a la Vida, A. C. </a:t>
            </a:r>
            <a:r>
              <a:rPr b="1" i="1" lang="es-MX" sz="1000" spc="-1" strike="noStrike">
                <a:solidFill>
                  <a:srgbClr val="ffff00"/>
                </a:solidFill>
                <a:latin typeface="Arial"/>
                <a:ea typeface="Arial"/>
              </a:rPr>
              <a:t>(Cerró en 2010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C:\Documents and Settings\Lic.Victor\Mis documentos\CEPA\fotos albergues\S7300814.JPG"/>
          <p:cNvPicPr/>
          <p:nvPr/>
        </p:nvPicPr>
        <p:blipFill>
          <a:blip r:embed="rId5"/>
          <a:stretch/>
        </p:blipFill>
        <p:spPr>
          <a:xfrm>
            <a:off x="539640" y="3573360"/>
            <a:ext cx="4032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Título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213840" y="1285560"/>
            <a:ext cx="4281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Acciones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Reuniones mensuales de los integrantes de la Vocalí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2011 bimestra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Reuniones trimestrales conjuntas con la Vocalía de la Red de Atención en Urgencias Médicas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Capacitar principalmente a personal de los Centros de tx, sobre la NOM 028-2009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Permanent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1181f"/>
                </a:solidFill>
                <a:uFillTx/>
                <a:latin typeface="Book Antiqua"/>
              </a:rPr>
              <a:t>Integración de la Comisión Técnica de Visitas a los Centros de Tx.</a:t>
            </a:r>
            <a:r>
              <a:rPr b="1" lang="es-MX" sz="1800" spc="-1" strike="noStrike">
                <a:solidFill>
                  <a:srgbClr val="01181f"/>
                </a:solidFill>
                <a:latin typeface="Book Antiqua"/>
              </a:rPr>
              <a:t> </a:t>
            </a:r>
            <a:r>
              <a:rPr b="1" i="1" lang="es-MX" sz="1800" spc="-1" strike="noStrike">
                <a:solidFill>
                  <a:srgbClr val="01181f"/>
                </a:solidFill>
                <a:latin typeface="Book Antiqua"/>
              </a:rPr>
              <a:t>Integrada por el CIJ, DSM y DA.</a:t>
            </a:r>
            <a:r>
              <a:rPr b="1" lang="es-MX" sz="1800" spc="-1" strike="noStrike">
                <a:solidFill>
                  <a:srgbClr val="01181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Book Antiqua"/>
              </a:rPr>
              <a:t>Se incorporan DIF Yucatán, Dirección de Regulación Sanitaria y CODHE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Picture 5" descr="C:\Documents and Settings\Lic.Victor\Mis documentos\CEPA\fotos albergues\S7301617.JPG"/>
          <p:cNvPicPr/>
          <p:nvPr/>
        </p:nvPicPr>
        <p:blipFill>
          <a:blip r:embed="rId2"/>
          <a:stretch/>
        </p:blipFill>
        <p:spPr>
          <a:xfrm>
            <a:off x="5143680" y="4000680"/>
            <a:ext cx="350028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Lic.Victor\Mis documentos\CEPA\fotos albergues\S7300681.JPG"/>
          <p:cNvPicPr/>
          <p:nvPr/>
        </p:nvPicPr>
        <p:blipFill>
          <a:blip r:embed="rId3"/>
          <a:stretch/>
        </p:blipFill>
        <p:spPr>
          <a:xfrm>
            <a:off x="5143680" y="1285920"/>
            <a:ext cx="35431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 Título" descr=""/>
          <p:cNvPicPr/>
          <p:nvPr/>
        </p:nvPicPr>
        <p:blipFill>
          <a:blip r:embed="rId1"/>
          <a:stretch/>
        </p:blipFill>
        <p:spPr>
          <a:xfrm>
            <a:off x="4645080" y="139680"/>
            <a:ext cx="404172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13840" y="285840"/>
            <a:ext cx="4281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édula de identificació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1143000"/>
            <a:ext cx="4281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Realizar una Visita mensual a los Centros de tx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Continu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Integrar un expediente de los Centros de tx. dando seguimiento a acuerdos, necesidades y cualquier situación relacionada con los objetivos de la NOM-028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Se cuenta con los expedientes por parte del CEPA - DSM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Realización de 4 cursos-taller en coordinación con la Vocalía de Urgencias Médicas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3 cursos-taller y la realización de un For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Implementación del SISVEA en los diferentes Centros de tx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Permanente. Actualización este año (2011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214200" y="78588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 Título" descr=""/>
          <p:cNvPicPr/>
          <p:nvPr/>
        </p:nvPicPr>
        <p:blipFill>
          <a:blip r:embed="rId1"/>
          <a:stretch/>
        </p:blipFill>
        <p:spPr>
          <a:xfrm>
            <a:off x="4645080" y="115920"/>
            <a:ext cx="4041720" cy="536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13840" y="428760"/>
            <a:ext cx="4281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536400" indent="-40284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Seguimiento del sistema de referencia-contra referencia de pacientes usuarios de droga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36400" indent="-40284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En proceso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Invitar a los Colegios de Psiquiatras, Psicólogos y Trabajadores Sociales para que participen y apoyen a la Vocalí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Pendient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1181f"/>
                </a:solidFill>
                <a:latin typeface="Book Antiqua"/>
              </a:rPr>
              <a:t>Realización de un Foro de Grupos e Instituciones que ofrecen tratamiento para las adicciones. Institucionalizar una vez al año este Foro que permitirá intercambiar experiencias de trabajo y fortalecer la Red de atenció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Book Antiqua"/>
              </a:rPr>
              <a:t>Cumplid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1181f"/>
                </a:solidFill>
                <a:latin typeface="Book Antiqua"/>
              </a:rPr>
              <a:t>Solicitar el apoyo de Universidades y CES para servicio social y prácticas de sus estudiantes y/o pasant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Book Antiqua"/>
              </a:rPr>
              <a:t>Han participado Kanankil, CELA y voluntarios del CIJ Mérid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36400" indent="-40284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5" name="Picture 7" descr="C:\Documents and Settings\Lic.Victor\Mis documentos\CEPA\fotos albergues\S7300838.JPG"/>
          <p:cNvPicPr/>
          <p:nvPr/>
        </p:nvPicPr>
        <p:blipFill>
          <a:blip r:embed="rId2"/>
          <a:stretch/>
        </p:blipFill>
        <p:spPr>
          <a:xfrm>
            <a:off x="4786200" y="3828960"/>
            <a:ext cx="4038840" cy="2814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Lic.Victor\Mis documentos\CEPA\fotos albergues\S7301675.JPG"/>
          <p:cNvPicPr/>
          <p:nvPr/>
        </p:nvPicPr>
        <p:blipFill>
          <a:blip r:embed="rId3"/>
          <a:stretch/>
        </p:blipFill>
        <p:spPr>
          <a:xfrm>
            <a:off x="4716360" y="692280"/>
            <a:ext cx="4038840" cy="2886120"/>
          </a:xfrm>
          <a:prstGeom prst="rect">
            <a:avLst/>
          </a:prstGeom>
          <a:ln w="0">
            <a:noFill/>
          </a:ln>
        </p:spPr>
      </p:pic>
      <p:sp>
        <p:nvSpPr>
          <p:cNvPr id="77" name="7 CuadroTexto"/>
          <p:cNvSpPr/>
          <p:nvPr/>
        </p:nvSpPr>
        <p:spPr>
          <a:xfrm>
            <a:off x="4859280" y="836640"/>
            <a:ext cx="3673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Casa de Regeneración “Puerta al Cielo, A. C.”  </a:t>
            </a:r>
            <a:r>
              <a:rPr b="1" i="1" lang="es-MX" sz="1200" spc="-1" strike="noStrike">
                <a:solidFill>
                  <a:srgbClr val="ffff00"/>
                </a:solidFill>
                <a:latin typeface="Arial"/>
                <a:ea typeface="Arial"/>
              </a:rPr>
              <a:t>(Cambio de domicili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8 CuadroTexto"/>
          <p:cNvSpPr/>
          <p:nvPr/>
        </p:nvSpPr>
        <p:spPr>
          <a:xfrm>
            <a:off x="5219640" y="616572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Anexo Maya “El Salvador”. Uaymitú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17:06Z</dcterms:created>
  <dc:creator>CIJ</dc:creator>
  <dc:description/>
  <dc:language>en-US</dc:language>
  <cp:lastModifiedBy>HOME</cp:lastModifiedBy>
  <dcterms:modified xsi:type="dcterms:W3CDTF">2015-10-23T18:02:04Z</dcterms:modified>
  <cp:revision>30</cp:revision>
  <dc:subject/>
  <dc:title>XII Conferencia Latinoamericana de Comunidades Terapéuticas</dc:title>
</cp:coreProperties>
</file>