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414080" y="1162080"/>
            <a:ext cx="418140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275C-6EBA-4D52-97B6-5046784CA0D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400" cy="3137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Marcador de número de diapositiva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F60F-66D6-4DEB-AE00-D086ECB884D7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89F9-53F5-4BB5-A93E-606D64C0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6F3-5639-4275-A1D3-17EC1259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00E-D395-4057-B746-2F45E9E2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345-4C34-411A-953F-E14994FB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C400-52F9-4114-AA21-36398C8F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66AF-A5FF-4700-A0C3-30460989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6B2A-0DEB-435A-96F6-35E8E457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A22F-FF01-4C11-92A6-CF64A348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4404-D08E-4A93-9149-AE15A912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F601-8603-4FDD-8DA5-CAE38DD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C024-2665-433C-8AD3-8E906879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4A8-F334-4D68-90E0-2BDD803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0370-18A3-4EE5-A6CD-E85A228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297B-26E5-4E78-8759-93E4703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4645-9D5E-4962-B90B-247D7356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6F83-F9E2-4446-AB67-F2BA51EB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47C-2F4E-48B9-B58E-D640F095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D85B3-6658-4BB5-A3E0-94189F9A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73D8-3EBF-495C-BFC0-5A8928C0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BB11-E221-4FC6-AAA6-9E3ED54F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DB3C-C2AF-434B-B847-9223BAF6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B7516-939C-4106-AFC3-4D48524D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9DF-D768-4C75-9D1B-22A2573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3A1E-BA3C-40AA-A89F-000DA03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0E27-12CC-4BD2-91F8-2F1018B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1ACB-B44F-40AC-97BD-85C87894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7AC6-ACE3-4CDA-A114-9DF402A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F031-BFEB-41EA-A23C-D12CB0BB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37F0-8B29-49DF-B305-45AD1EE2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B2AA-3134-482E-A116-02D63912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6D48-44C4-4E5E-96BD-E57DAAA3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E9727-18E8-4C53-8778-34D57E1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09C0-620C-4752-9A4D-2A8A34FE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B4F-0117-45EA-9CEF-97D9FFF4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406F-FAAB-424C-BB2F-4606E860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6CE7-11C2-4DEE-BCAD-2A672724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D091D-D090-4C42-9B15-AA5F890B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60363-E37A-4942-BE0C-F7CF012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0B8BD-0309-484C-9959-8FBC09F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5E0C-2D19-400F-81F5-A9679ED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4AA04-A179-401B-9582-25057C17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2407-2336-4C31-BA5A-7DB828E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75BA3-E62E-4ABB-9107-D2B5164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49C40-0274-40B3-A39F-280C31F6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056-F327-4A7F-B32E-208D526C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DF29-1B86-4F11-9487-560EB906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9AC9A-AFC6-4680-8577-34E60E30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4700-14C2-4DCC-8D90-5B5D9DAB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6D3AD-388F-4F91-B8D9-F0855698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D7DBE-900E-449F-99D4-D2A2FA4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9CEA6-0175-415A-9988-9EF167E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96A5-E5E4-4C1A-8216-F89742B8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D7D9-CF59-4129-8C8A-D6F0AFF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E6AE4-892D-4339-A1D3-AD7E30DA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43B3-017F-4163-984A-FB940518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46F-162B-4223-B596-23BF839B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0183-CCB9-42E4-B79A-CD27B81D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8034-5CA9-42E2-8447-BB2D6B92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77AD6-1DEC-4EFB-B55E-B160634B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1B361-F3BF-4066-BB11-EE2D4AF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01D5D-CEA6-4697-971B-E8FA49D3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904D5-D2F3-486E-8DF3-4178858E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33F37-89DA-4560-AE61-1E2C1257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C2C3F-750B-4ED7-8D08-4D4CEB7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BDCB6-6E15-49DA-A15F-293C0B55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18B77-1925-4382-96E2-F223DFF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F09-9289-4E21-9F8D-E85787E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7731D-D74F-454C-ADF6-1B41A9FE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DF6F0-D953-4671-A480-244830DC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3408-4B7E-4617-9DFE-BC322A47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F5592-A09C-4CA6-B682-6E1E8587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D9DC-DA87-4CEF-B445-A1C0BF2E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DA806-6946-415F-8B34-027E1B2C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8743-7362-43E2-B21D-5C4B7741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101F0-DCB4-4BC2-97D5-F627005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02597-CB07-4CA9-9FA9-8667AC92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77B35-AB83-4A9F-B51D-4AF73652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F5B-E6AA-42C5-83EA-FEE52A6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AB2E8-DB90-4F51-9197-BC0D1B9B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C426-344D-46E0-87C9-1A908501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54E82-668D-4F01-A32D-49B49341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5CC0-495F-4DEF-8BB7-D0063ECF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F1D3E-A9CB-44E9-A972-6ABCCE61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4B9-61AE-4361-B874-8F569AFC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858E-091B-4848-8B95-75211A926EE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8D10-D66C-4D10-B066-31DADB01D31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961B-464F-49CD-B49D-374885AD17D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4B28-D007-41AE-A6E0-BD084F8A86C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DEA5-E490-4764-AB10-84F235641BD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FB9-8DB4-4770-89D1-B0071A930F40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D1C-DBD5-47CA-857D-0A184C5AB07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66560" y="360000"/>
            <a:ext cx="6697800" cy="765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2314"/>
                </a:solidFill>
                <a:latin typeface="Gill Sans MT"/>
              </a:rPr>
              <a:t>Centros de Integración Juvenil, A. C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4640"/>
            <a:ext cx="7407000" cy="460872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20e04"/>
                </a:solidFill>
                <a:latin typeface="Gill Sans MT"/>
              </a:rPr>
              <a:t>Diplomado. Justicia para Adolescent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20e04"/>
                </a:solidFill>
                <a:latin typeface="Gill Sans MT"/>
              </a:rPr>
              <a:t>LTS Víctor R. Roa M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20e04"/>
                </a:solidFill>
                <a:latin typeface="Gill Sans MT"/>
              </a:rPr>
              <a:t>Mérida, Yuc.  Octubre 2015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2" descr="Logo2-40aniv(9)"/>
          <p:cNvPicPr/>
          <p:nvPr/>
        </p:nvPicPr>
        <p:blipFill>
          <a:blip r:embed="rId1"/>
          <a:stretch/>
        </p:blipFill>
        <p:spPr>
          <a:xfrm>
            <a:off x="250920" y="333360"/>
            <a:ext cx="165564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516060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572314"/>
                </a:solidFill>
                <a:latin typeface="Gill Sans MT"/>
              </a:rPr>
              <a:t>LUDOPATÍ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Población 12 a 65 año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6000" y="188640"/>
            <a:ext cx="3970440" cy="64764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6000"/>
          </a:bodyPr>
          <a:p>
            <a:pPr marL="60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Población total por sexo que han jugado en un casino en Mérida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57200" y="1341360"/>
          <a:ext cx="4022640" cy="331164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1360"/>
              </a:tblGrid>
              <a:tr h="54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g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di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ucat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3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d. de Mé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. del E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. Q. R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4664160" y="969840"/>
          <a:ext cx="4228920" cy="292752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  <a:gridCol w="1409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e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 vez por semana o m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s de una vez por 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u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643280" y="4056120"/>
          <a:ext cx="4249800" cy="1844640"/>
        </p:xfrm>
        <a:graphic>
          <a:graphicData uri="http://schemas.openxmlformats.org/drawingml/2006/table">
            <a:tbl>
              <a:tblPr/>
              <a:tblGrid>
                <a:gridCol w="1416240"/>
                <a:gridCol w="2833560"/>
              </a:tblGrid>
              <a:tr h="7408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blación 12 a 65 años que ha querido dejar de jugar sin lograr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527280" cy="792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CONCLUSIO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79280" y="1125000"/>
            <a:ext cx="4913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5% de los encuestados conoce a alguien con problemas de jueg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n Mérida, el 2% de los jugadores “gasta” de mil a $10,000.00 en un solo dí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a lotería es el juego más alto, pero sin las consecuencias de otros juegos de diner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3.8% de los jugadores tienen indicadores de alto riesgo, sin llegar a ser ludópa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1.8% de la población encuestada en Mérida, cumple con los criterios de ludopatía (28,437 persona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3" descr="C:\Documents and Settings\Lic.Victor\Mis documentos\Mis imágenes\Ludopatía\mujer-ludo.jpg"/>
          <p:cNvPicPr/>
          <p:nvPr/>
        </p:nvPicPr>
        <p:blipFill>
          <a:blip r:embed="rId1"/>
          <a:stretch/>
        </p:blipFill>
        <p:spPr>
          <a:xfrm>
            <a:off x="5867280" y="574560"/>
            <a:ext cx="2808360" cy="2349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Documents and Settings\Lic.Victor\Mis documentos\Mis imágenes\Ludopatía\soloftemáq.jpg"/>
          <p:cNvPicPr/>
          <p:nvPr/>
        </p:nvPicPr>
        <p:blipFill>
          <a:blip r:embed="rId2"/>
          <a:stretch/>
        </p:blipFill>
        <p:spPr>
          <a:xfrm>
            <a:off x="5867280" y="3573360"/>
            <a:ext cx="27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84720" y="188640"/>
            <a:ext cx="2849760" cy="143964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MX" sz="2000" spc="-1" strike="noStrike">
                <a:solidFill>
                  <a:srgbClr val="000000"/>
                </a:solidFill>
                <a:latin typeface="Cambria"/>
                <a:ea typeface="Arial"/>
              </a:rPr>
              <a:t>Drogas Sociales:</a:t>
            </a:r>
            <a:br>
              <a:rPr sz="1800"/>
            </a:br>
            <a:r>
              <a:rPr b="1" lang="es-MX" sz="1800" spc="-1" strike="noStrike" u="sng">
                <a:solidFill>
                  <a:srgbClr val="000000"/>
                </a:solidFill>
                <a:uFillTx/>
                <a:latin typeface="Cambria"/>
                <a:ea typeface="Arial"/>
              </a:rPr>
              <a:t>Internet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Cambria"/>
                <a:ea typeface="Arial"/>
              </a:rPr>
              <a:t>Celular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Cambria"/>
                <a:ea typeface="Arial"/>
              </a:rPr>
              <a:t>Videojuegos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Marcador de contenido 2" descr=""/>
          <p:cNvPicPr/>
          <p:nvPr/>
        </p:nvPicPr>
        <p:blipFill>
          <a:blip r:embed="rId1"/>
          <a:stretch/>
        </p:blipFill>
        <p:spPr>
          <a:xfrm>
            <a:off x="676440" y="1628640"/>
            <a:ext cx="3608280" cy="193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Logo2-40aniv(9)"/>
          <p:cNvPicPr/>
          <p:nvPr/>
        </p:nvPicPr>
        <p:blipFill>
          <a:blip r:embed="rId2"/>
          <a:stretch/>
        </p:blipFill>
        <p:spPr>
          <a:xfrm>
            <a:off x="324000" y="260280"/>
            <a:ext cx="187632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  <p:pic>
        <p:nvPicPr>
          <p:cNvPr id="376" name="Imagen 3" descr=""/>
          <p:cNvPicPr/>
          <p:nvPr/>
        </p:nvPicPr>
        <p:blipFill>
          <a:blip r:embed="rId3"/>
          <a:stretch/>
        </p:blipFill>
        <p:spPr>
          <a:xfrm>
            <a:off x="5508720" y="2035080"/>
            <a:ext cx="2552760" cy="3048120"/>
          </a:xfrm>
          <a:prstGeom prst="rect">
            <a:avLst/>
          </a:prstGeom>
          <a:ln w="0">
            <a:noFill/>
          </a:ln>
        </p:spPr>
      </p:pic>
      <p:pic>
        <p:nvPicPr>
          <p:cNvPr id="377" name="Imagen 4" descr=""/>
          <p:cNvPicPr/>
          <p:nvPr/>
        </p:nvPicPr>
        <p:blipFill>
          <a:blip r:embed="rId4"/>
          <a:stretch/>
        </p:blipFill>
        <p:spPr>
          <a:xfrm>
            <a:off x="676440" y="4229280"/>
            <a:ext cx="39668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83560" cy="71892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72314"/>
                </a:solidFill>
                <a:latin typeface="Gill Sans MT"/>
              </a:rPr>
              <a:t>Indicadores de Uso de Internet. Población de 12 a 65 años. Cd. de Mérida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50920" y="1052640"/>
          <a:ext cx="8683560" cy="5259240"/>
        </p:xfrm>
        <a:graphic>
          <a:graphicData uri="http://schemas.openxmlformats.org/drawingml/2006/table">
            <a:tbl>
              <a:tblPr/>
              <a:tblGrid>
                <a:gridCol w="4176720"/>
                <a:gridCol w="1623960"/>
                <a:gridCol w="1500120"/>
                <a:gridCol w="138276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mb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uje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016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uándo tiene problemas, conectarse a internet le ayuda a evadir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44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 resulta más fácil o cómodo relacionarse con la gente a través de internet que en pers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604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 que frecuencia los que comparten su vida se quejan del tiempo que pasa conectado a la 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3456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Gill Sans MT"/>
              </a:rPr>
              <a:t>Conclusione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211280" y="115560"/>
            <a:ext cx="4722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El 3.3% de la población encuestada cumple con los criterios de uso problemático o adicción a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A diferencia de la adicción al uso del celular que no tiene una repercusión tan grave en la salud mental, el uso problemático o adictivo al internet si puede producir trastornos psiquiátricos en especial en adolescentes y jóve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Picture 3" descr="C:\Documents and Settings\Lic.Victor\Mis documentos\Mis imágenes\Ludopatía\adiccinternet.jpg"/>
          <p:cNvPicPr/>
          <p:nvPr/>
        </p:nvPicPr>
        <p:blipFill>
          <a:blip r:embed="rId1"/>
          <a:stretch/>
        </p:blipFill>
        <p:spPr>
          <a:xfrm>
            <a:off x="250920" y="105264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383" name="Imagen 5" descr=""/>
          <p:cNvPicPr/>
          <p:nvPr/>
        </p:nvPicPr>
        <p:blipFill>
          <a:blip r:embed="rId2"/>
          <a:stretch/>
        </p:blipFill>
        <p:spPr>
          <a:xfrm>
            <a:off x="324000" y="4091040"/>
            <a:ext cx="36716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104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572314"/>
                </a:solidFill>
                <a:latin typeface="Gill Sans MT"/>
              </a:rPr>
              <a:t>Indicadores del uso de celular en población de 12 a 65 años por sexo. Cd. de Mérida</a:t>
            </a:r>
            <a:endParaRPr b="0" lang="en-US" sz="2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79280" y="765000"/>
          <a:ext cx="8755200" cy="5561280"/>
        </p:xfrm>
        <a:graphic>
          <a:graphicData uri="http://schemas.openxmlformats.org/drawingml/2006/table">
            <a:tbl>
              <a:tblPr/>
              <a:tblGrid>
                <a:gridCol w="4538880"/>
                <a:gridCol w="1465200"/>
                <a:gridCol w="1463760"/>
                <a:gridCol w="12873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mb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uje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016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sa su Cel. mientras come, cuando esta acompañado, en el cine, en clases o en cualquier otra situación que se considere inapropi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164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ente la necesidad de invertir cada vez más tiempo en el Cel. para sentirse satisfec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7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 siente inquieto cuando no recibe mensajes o llam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67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lta constantemente el Cel. por si le ha llamado o escrito algui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179280" y="6375240"/>
          <a:ext cx="8755200" cy="366840"/>
        </p:xfrm>
        <a:graphic>
          <a:graphicData uri="http://schemas.openxmlformats.org/drawingml/2006/table">
            <a:tbl>
              <a:tblPr/>
              <a:tblGrid>
                <a:gridCol w="4538880"/>
                <a:gridCol w="1465200"/>
                <a:gridCol w="1463760"/>
                <a:gridCol w="128736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eb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83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72314"/>
                </a:solidFill>
                <a:latin typeface="Gill Sans MT"/>
              </a:rPr>
              <a:t>Indicadores del uso de celular en población de 12 a 65 años por sexo. Cd. de Mérida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50920" y="1052640"/>
          <a:ext cx="8683560" cy="4114800"/>
        </p:xfrm>
        <a:graphic>
          <a:graphicData uri="http://schemas.openxmlformats.org/drawingml/2006/table">
            <a:tbl>
              <a:tblPr/>
              <a:tblGrid>
                <a:gridCol w="3716280"/>
                <a:gridCol w="1582560"/>
                <a:gridCol w="1835280"/>
                <a:gridCol w="1549440"/>
              </a:tblGrid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mb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uje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30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 siente angustiado cuando deja su Cel. Olvidado en c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16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e siente angustiado cuando se ha descargado su C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5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 escuchado se Cel. mientras está apa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stantes ve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03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i 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89" name="CuadroTexto 2"/>
          <p:cNvSpPr/>
          <p:nvPr/>
        </p:nvSpPr>
        <p:spPr>
          <a:xfrm>
            <a:off x="324000" y="537372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8.3% de la población de Mérida tiene uso problemático o adicción al teléfono 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udios en España refieren un uso problemático o adicción al Cel. de 12.1% (Echeburúa,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395280" y="115920"/>
          <a:ext cx="8539200" cy="6649920"/>
        </p:xfrm>
        <a:graphic>
          <a:graphicData uri="http://schemas.openxmlformats.org/drawingml/2006/table">
            <a:tbl>
              <a:tblPr/>
              <a:tblGrid>
                <a:gridCol w="3816360"/>
                <a:gridCol w="1655640"/>
                <a:gridCol w="1513080"/>
                <a:gridCol w="1554120"/>
              </a:tblGrid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IDEOJUE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mb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ujeres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tal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143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guna vez ha intentado dejar de jugar y no lo ha conseg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 fre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e relaja jugar videojue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 frecu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43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ugar donde juega principalmente los videojueg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 alguna amist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i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161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recuencia con que juega videojuegos a la sem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i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 4 a 6 d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 2 a 3 d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s de un 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789000"/>
            <a:ext cx="3898800" cy="280836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72314"/>
                </a:solidFill>
                <a:latin typeface="Gill Sans MT"/>
              </a:rPr>
              <a:t>Población por sexo que dedica más tiempo del que cree necesario para jugar videojueg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on frecuencia.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De 12 a 17 años (2.5%) y 18, 19 años (3.3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Siempre.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De 12 a 17 años (1.10%) y de 18 a 29 años (2.5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64160" y="1023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Gill Sans MT"/>
              </a:rPr>
              <a:t>Con frecuencia.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De 18 a 29 años (1.9%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Imagen 1" descr=""/>
          <p:cNvPicPr/>
          <p:nvPr/>
        </p:nvPicPr>
        <p:blipFill>
          <a:blip r:embed="rId1"/>
          <a:stretch/>
        </p:blipFill>
        <p:spPr>
          <a:xfrm>
            <a:off x="4737240" y="2060640"/>
            <a:ext cx="3971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Conclusiones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as personas que han intentado dejar de jugar y nunca lo consiguen, en Hombres (1.4%) y menos del 0.1% en Muje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os que a veces no lo pueden detener. 9.5%, en Hombres y 5.5%, en Muje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os videojuegos, representan una actividad gratificante, en los hombres el 19.9% y en mujeres, el 17%. Estas personas están predispuestas a convertir los videojuegos en una conducta problemá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3964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Los hombres presentan principalmente este tipo de conductas compulsiv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842160" cy="86508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72314"/>
                </a:solidFill>
                <a:latin typeface="Gill Sans MT"/>
              </a:rPr>
              <a:t>Nuevas Adicciones…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9" name="Picture 2" descr="Logo2-40aniv(9)"/>
          <p:cNvPicPr/>
          <p:nvPr/>
        </p:nvPicPr>
        <p:blipFill>
          <a:blip r:embed="rId1"/>
          <a:stretch/>
        </p:blipFill>
        <p:spPr>
          <a:xfrm>
            <a:off x="324000" y="260280"/>
            <a:ext cx="165564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7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ill Sans MT"/>
              </a:rPr>
              <a:t>Adicción o dependencia,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es el estado psicofísico causado por la interacción de un organismo vivo con un fármaco, alcohol, tabaco u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ill Sans MT"/>
              </a:rPr>
              <a:t>otra droga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, caracterizado por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ill Sans MT"/>
              </a:rPr>
              <a:t>modificación del comportamiento y otras reacciones que comprenden siempre un impulso irreprimible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por tomar dicha sustancia en forma continua o periódica, a fin de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Gill Sans MT"/>
              </a:rPr>
              <a:t>experimentar sus efectos psíquicos y a veces para evitar el malestar producido por  la privación. </a:t>
            </a:r>
            <a:r>
              <a:rPr b="0" lang="es-ES_tradnl" sz="2000" spc="-1" strike="noStrike">
                <a:solidFill>
                  <a:srgbClr val="000000"/>
                </a:solidFill>
                <a:latin typeface="Gill Sans MT"/>
              </a:rPr>
              <a:t>(NOM-028-SSA2-2009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Gill Sans MT"/>
              </a:rPr>
              <a:t>Adicto, 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viene del latín </a:t>
            </a: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addictus (muy favorable o inclinado a, dedicado o entregado a, adjudicado legalmente a)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…en tiempos muy antiguos a un tipo concreto de</a:t>
            </a:r>
            <a:r>
              <a:rPr b="0" i="1" lang="es-ES_tradn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Gill Sans MT"/>
              </a:rPr>
              <a:t>esclav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Características Sociodemográficas y Epidemiológicas de Usuarios de Drogas. Alguna Vez en la Vida (AVV). 2do. Semestre de 2014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431720" y="2852640"/>
            <a:ext cx="740700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20e04"/>
                </a:solidFill>
                <a:latin typeface="Gill Sans MT"/>
              </a:rPr>
              <a:t>CIJ Mérida y CIJ Yucatá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6018120" cy="5760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72314"/>
                </a:solidFill>
                <a:latin typeface="Gill Sans MT"/>
              </a:rPr>
              <a:t>Nuevas adicciones…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2" name="Picture 2" descr="Logo2-40aniv(9)"/>
          <p:cNvPicPr/>
          <p:nvPr/>
        </p:nvPicPr>
        <p:blipFill>
          <a:blip r:embed="rId1"/>
          <a:stretch/>
        </p:blipFill>
        <p:spPr>
          <a:xfrm>
            <a:off x="324000" y="189000"/>
            <a:ext cx="1876320" cy="64764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  <p:sp>
        <p:nvSpPr>
          <p:cNvPr id="333" name=""/>
          <p:cNvSpPr txBox="1"/>
          <p:nvPr/>
        </p:nvSpPr>
        <p:spPr>
          <a:xfrm>
            <a:off x="4067280" y="1052640"/>
            <a:ext cx="48672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ualquier actividad que una persona sea incapaz de controlar, que la lleve 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Gill Sans MT"/>
              </a:rPr>
              <a:t>conductas compulsivas, 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y que perjudique sobre todo su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Gill Sans MT"/>
              </a:rPr>
              <a:t>calidad de vida</a:t>
            </a: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 (que genere problemas en su trabajo, en sus actividades académicas, en sus relaciones sociales, familiares o de pareja). P. e. adicción al sexo, al juego (ludopatía), la adicción a la pornografía, a la TV, adicción a las nuevas tecnologías (tecnofilia), la adicción a la interne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4" name="Picture 2" descr="C:\Documents and Settings\Lic.Victor\Mis documentos\Mis imágenes\Ludopatía\ludocerebro.jpg"/>
          <p:cNvPicPr/>
          <p:nvPr/>
        </p:nvPicPr>
        <p:blipFill>
          <a:blip r:embed="rId2"/>
          <a:stretch/>
        </p:blipFill>
        <p:spPr>
          <a:xfrm>
            <a:off x="684360" y="1268280"/>
            <a:ext cx="2232000" cy="22989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C:\Documents and Settings\Lic.Victor\Mis documentos\Mis imágenes\Ludopatía\ptoadictivo.jpg"/>
          <p:cNvPicPr/>
          <p:nvPr/>
        </p:nvPicPr>
        <p:blipFill>
          <a:blip r:embed="rId3"/>
          <a:stretch/>
        </p:blipFill>
        <p:spPr>
          <a:xfrm>
            <a:off x="755640" y="3998880"/>
            <a:ext cx="2160720" cy="2454480"/>
          </a:xfrm>
          <a:prstGeom prst="rect">
            <a:avLst/>
          </a:prstGeom>
          <a:ln w="9360">
            <a:solidFill>
              <a:srgbClr val="232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6551640" cy="11430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ENCUESTA ESTATAL DE ADICCIONES YUCATÁN (EAY) 2014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39280" y="1523880"/>
            <a:ext cx="403236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DROGAS ILEGA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TABA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DROGAS SOCIA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LUDOPATÍ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CEL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VIDEOJUEG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Marcador de contenido 7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380196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5897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572314"/>
                </a:solidFill>
                <a:latin typeface="Gill Sans MT"/>
              </a:rPr>
              <a:t>Encuesta Estatal de Adicciones Yucatán (EAY) 2014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10126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7000"/>
          </a:bodyPr>
          <a:p>
            <a:pPr marL="61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Drogas Ilícitas. Población total de 12 a 65 años de edad. Prevalencia Alguna Vez en la Vida (AVV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5079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Gill Sans MT"/>
              </a:rPr>
              <a:t>Edad de Inicio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57200" y="1628640"/>
          <a:ext cx="4022640" cy="3168720"/>
        </p:xfrm>
        <a:graphic>
          <a:graphicData uri="http://schemas.openxmlformats.org/drawingml/2006/table">
            <a:tbl>
              <a:tblPr/>
              <a:tblGrid>
                <a:gridCol w="2011320"/>
                <a:gridCol w="201132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ucat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d. de  Mé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indancia Q. Roo (9 municipi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erior del Edo. (96 municipi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664160" y="969840"/>
          <a:ext cx="4022640" cy="4449960"/>
        </p:xfrm>
        <a:graphic>
          <a:graphicData uri="http://schemas.openxmlformats.org/drawingml/2006/table">
            <a:tbl>
              <a:tblPr/>
              <a:tblGrid>
                <a:gridCol w="2011320"/>
                <a:gridCol w="20113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ucat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d. de Mér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5436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5436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lindancia Q. Ro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898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898c3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. del E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ad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es de e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572314"/>
                </a:solidFill>
                <a:latin typeface="Gill Sans MT"/>
              </a:rPr>
              <a:t>Edad de Inicio. Comparativo EAY 2005-2014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34960" y="1989000"/>
          <a:ext cx="7499520" cy="2735280"/>
        </p:xfrm>
        <a:graphic>
          <a:graphicData uri="http://schemas.openxmlformats.org/drawingml/2006/table">
            <a:tbl>
              <a:tblPr/>
              <a:tblGrid>
                <a:gridCol w="2500560"/>
                <a:gridCol w="2498760"/>
                <a:gridCol w="2500200"/>
              </a:tblGrid>
              <a:tr h="69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e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3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 años (64.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es de 18 años (45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 15 a 17 años (3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219280" y="4869000"/>
            <a:ext cx="346716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72314"/>
                </a:solidFill>
                <a:latin typeface="Gill Sans MT"/>
              </a:rPr>
              <a:t>Alcoh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4022640" cy="77940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0000"/>
          </a:bodyPr>
          <a:p>
            <a:pPr marL="504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Población de 12 a 65 años de edad. AVV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Edad de inic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" y="1197000"/>
          <a:ext cx="4022640" cy="2376360"/>
        </p:xfrm>
        <a:graphic>
          <a:graphicData uri="http://schemas.openxmlformats.org/drawingml/2006/table">
            <a:tbl>
              <a:tblPr/>
              <a:tblGrid>
                <a:gridCol w="2011320"/>
                <a:gridCol w="2011320"/>
              </a:tblGrid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bedor ac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46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792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 bebe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cons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179280" y="4005360"/>
          <a:ext cx="4484880" cy="2000160"/>
        </p:xfrm>
        <a:graphic>
          <a:graphicData uri="http://schemas.openxmlformats.org/drawingml/2006/table">
            <a:tbl>
              <a:tblPr/>
              <a:tblGrid>
                <a:gridCol w="2243160"/>
                <a:gridCol w="2241720"/>
              </a:tblGrid>
              <a:tr h="9446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blación de 12 a 17 años de e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4664160" y="969840"/>
          <a:ext cx="4022640" cy="2392560"/>
        </p:xfrm>
        <a:graphic>
          <a:graphicData uri="http://schemas.openxmlformats.org/drawingml/2006/table">
            <a:tbl>
              <a:tblPr/>
              <a:tblGrid>
                <a:gridCol w="2011320"/>
                <a:gridCol w="2011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enores de 14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3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 15 a 17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 18 y 19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e 20 a 24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es de 2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589720"/>
            <a:ext cx="3322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72314"/>
                </a:solidFill>
                <a:latin typeface="Gill Sans MT"/>
              </a:rPr>
              <a:t>Tabaco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Población de 12 a 65 añ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Gill Sans MT"/>
              </a:rPr>
              <a:t>Consumo por Regi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57200" y="969840"/>
          <a:ext cx="4022640" cy="1113120"/>
        </p:xfrm>
        <a:graphic>
          <a:graphicData uri="http://schemas.openxmlformats.org/drawingml/2006/table">
            <a:tbl>
              <a:tblPr/>
              <a:tblGrid>
                <a:gridCol w="2011320"/>
                <a:gridCol w="2011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um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 fum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8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fum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664160" y="969840"/>
          <a:ext cx="4022640" cy="4795920"/>
        </p:xfrm>
        <a:graphic>
          <a:graphicData uri="http://schemas.openxmlformats.org/drawingml/2006/table">
            <a:tbl>
              <a:tblPr/>
              <a:tblGrid>
                <a:gridCol w="2011320"/>
                <a:gridCol w="201132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Yucat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d. de Mé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543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4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. del E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898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8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57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lindancia Q. R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a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" y="2924280"/>
          <a:ext cx="4022640" cy="1947600"/>
        </p:xfrm>
        <a:graphic>
          <a:graphicData uri="http://schemas.openxmlformats.org/drawingml/2006/table">
            <a:tbl>
              <a:tblPr/>
              <a:tblGrid>
                <a:gridCol w="1911240"/>
                <a:gridCol w="2111400"/>
              </a:tblGrid>
              <a:tr h="97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omb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13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je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457200" y="2276640"/>
          <a:ext cx="4022640" cy="647640"/>
        </p:xfrm>
        <a:graphic>
          <a:graphicData uri="http://schemas.openxmlformats.org/drawingml/2006/table">
            <a:tbl>
              <a:tblPr/>
              <a:tblGrid>
                <a:gridCol w="402264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blación de 12 a 17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714840" cy="11430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572314"/>
                </a:solidFill>
                <a:latin typeface="Gill Sans MT"/>
              </a:rPr>
              <a:t>LUDOPATÍ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Marcador de contenido 1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3810240" cy="2609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C:\Documents and Settings\Lic.Victor\Mis documentos\Mis imágenes\Ludopatía\probsasociados.jpg"/>
          <p:cNvPicPr/>
          <p:nvPr/>
        </p:nvPicPr>
        <p:blipFill>
          <a:blip r:embed="rId2"/>
          <a:stretch/>
        </p:blipFill>
        <p:spPr>
          <a:xfrm>
            <a:off x="324000" y="4221000"/>
            <a:ext cx="3456000" cy="2351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C:\Documents and Settings\Lic.Victor\Mis documentos\Mis imágenes\Ludopatía\maqadicc.jpg"/>
          <p:cNvPicPr/>
          <p:nvPr/>
        </p:nvPicPr>
        <p:blipFill>
          <a:blip r:embed="rId3"/>
          <a:stretch/>
        </p:blipFill>
        <p:spPr>
          <a:xfrm>
            <a:off x="762120" y="476280"/>
            <a:ext cx="30240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5-10-26T00:16:30Z</dcterms:modified>
  <cp:revision>70</cp:revision>
  <dc:subject/>
  <dc:title>H. Ayuntamiento de Mérida Centros de Integración Juvenil, A. C.</dc:title>
</cp:coreProperties>
</file>