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CC5-828B-48A3-83C3-AE203DB1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487-6875-4FC7-8336-4E9621C8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4B9-8C74-4A73-9B1A-B84D7876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348-E4C0-42CF-8A3F-9ADEFD1C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981-FD5D-4D6A-9413-681DAF02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402B-2CCC-49DE-B447-15CC4BD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2EA-E0C2-4E31-9F79-BA893415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52B-6B16-4F9D-A8D6-5FF67710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36D-2290-46A7-AA81-83AB572A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D98-DE94-4C39-A024-0CA3F76B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593-85F7-4863-9C44-47DBEA43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C72-A415-4B51-A608-940CBC41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1078-3ED8-48E1-A6CE-C8214E487B5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Calibri"/>
              </a:rPr>
              <a:t>DIPLOMADO JUSTICIA PARA ADOLESC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98989"/>
                </a:solidFill>
                <a:latin typeface="Calibri"/>
              </a:rPr>
              <a:t>HISTORIA DE LAS DRO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98989"/>
                </a:solidFill>
                <a:latin typeface="Calibri"/>
              </a:rPr>
              <a:t>Víctor R. Roa 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Panorámica de las dro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El consumo de drogas que alteran la mente es tan antiguo como la human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l hombre prehistórico probablemente conocía algunas bebidas ferment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En papiros del antiguo Egipto se observa gente bebiendo vino y cerve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Los indios sudamericanos, siglos antes de la conquista española, conocían las propiedades estimulantes de la hoja de co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MX" sz="2400" spc="-1" strike="noStrike">
                <a:solidFill>
                  <a:srgbClr val="000000"/>
                </a:solidFill>
                <a:latin typeface="Calibri"/>
              </a:rPr>
              <a:t>La biblia menciona unas 165 veces el vino en términos aprobatorios, pero condena terminantemente la embriaguez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95b2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En busca de una perspectiva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ba8f2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l uso de las drog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mo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 fines de simple esparcimien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mo parte de rituales en un contexto mágico-religio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n festiv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Lic.Victor\Mis documentos\Mis imágenes\drogas04.jpg"/>
          <p:cNvPicPr/>
          <p:nvPr/>
        </p:nvPicPr>
        <p:blipFill>
          <a:blip r:embed="rId1"/>
          <a:stretch/>
        </p:blipFill>
        <p:spPr>
          <a:xfrm>
            <a:off x="5292720" y="2060640"/>
            <a:ext cx="31669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1143000"/>
          </a:xfrm>
          <a:prstGeom prst="rect">
            <a:avLst/>
          </a:prstGeom>
          <a:solidFill>
            <a:srgbClr val="ba8f2d"/>
          </a:solidFill>
          <a:ln w="9360">
            <a:solidFill>
              <a:srgbClr val="94b6d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Historia de las drog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ada sociedad establece sus propias reglas y líneas de conducta para normar el uso de drogas; reglamenta usos y comportamientos acep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Lic.Victor\Mis documentos\Mis imágenes\drogas1.jpg"/>
          <p:cNvPicPr/>
          <p:nvPr/>
        </p:nvPicPr>
        <p:blipFill>
          <a:blip r:embed="rId1"/>
          <a:stretch/>
        </p:blipFill>
        <p:spPr>
          <a:xfrm>
            <a:off x="5834160" y="549360"/>
            <a:ext cx="25542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Historia de las droga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alibri"/>
              </a:rPr>
              <a:t>Se pierde en el tiempo la tradición de consumir drogas 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- cada pueblo y cada cultura van teniendo las suyas. Unas veces, el hombre ha buscado en ellas la nutrición física, otras la cura para sus enfermedades, otras para alimentar sueños o alcanzar el transcendente, influenciar el humor, buscar la paz o la excitación, en fin, simplemente para abstraerse del mundo que lo rodea y lo perturba en cierto momento de su existenc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Historia de las drogas….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Uso de las drogas como parte de las costumbres y tradiciones de las comunidades (masticación de la hoja de coca por los indígen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Utilización de las sustancias en las guer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Incorporación de ciertas sustancias en la farmacopea (Medio Oriente, China, Grecia, etc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Masificación del u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29200" y="274680"/>
            <a:ext cx="2757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Historia de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4200" y="274680"/>
            <a:ext cx="4718160" cy="639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Guerras del opio (mitad 1800 y ppios. 19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Se inicia el movimiento que lleva al actual derecho internacional (y nacional) de la droga, periodo en que se confrontan dos blo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nferencia de Shangai  (1909), En donde emana un principio (un ideal) que vendría a perdurar durante todo el siglo XX: </a:t>
            </a: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la limitación del comercio de las drogas perjudiciales, solamente a fines médi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Continúan Convenciones, Tratados y Acuerdos Interna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6 Marcador de contenido" descr="imagesCA9B3388.jpg"/>
          <p:cNvPicPr/>
          <p:nvPr/>
        </p:nvPicPr>
        <p:blipFill>
          <a:blip r:embed="rId1"/>
          <a:stretch/>
        </p:blipFill>
        <p:spPr>
          <a:xfrm>
            <a:off x="5072040" y="1357200"/>
            <a:ext cx="37148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Historia de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6 Marcador de contenido" descr="recono-onu.jpg"/>
          <p:cNvPicPr/>
          <p:nvPr/>
        </p:nvPicPr>
        <p:blipFill>
          <a:blip r:embed="rId1"/>
          <a:stretch/>
        </p:blipFill>
        <p:spPr>
          <a:xfrm>
            <a:off x="162000" y="1285920"/>
            <a:ext cx="1976400" cy="1493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305240" y="285480"/>
            <a:ext cx="46245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onvención Única de Estupefacientes (1961). Regulación con dos metas ppa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imitar la producción, tratamiento, distribución, importación, exportación, venta, posesión y uso de estupefacientes a fines exclusivamente médicos y científic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erseguir el tráfico de esas sustancias mediante el establecimiento de mecanismos de cooperación internacional que permitan descubrir y detener a los narcotrafican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Junta Internacional de Fiscalización de Estupefacientes (197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Convenio Marco de la OMS para el Control del Tabac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rimera Conferencia Panamericana sobre Políticas Públicas en Alcohol. “Declaración de Brasilia” (200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Otros Convenios, Tratado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Victor\Pictures\Jife.jpg"/>
          <p:cNvPicPr/>
          <p:nvPr/>
        </p:nvPicPr>
        <p:blipFill>
          <a:blip r:embed="rId2"/>
          <a:stretch/>
        </p:blipFill>
        <p:spPr>
          <a:xfrm>
            <a:off x="2300400" y="2349360"/>
            <a:ext cx="1681200" cy="14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Victor\Pictures\drogas1.jpg"/>
          <p:cNvPicPr/>
          <p:nvPr/>
        </p:nvPicPr>
        <p:blipFill>
          <a:blip r:embed="rId3"/>
          <a:stretch/>
        </p:blipFill>
        <p:spPr>
          <a:xfrm>
            <a:off x="214200" y="4143240"/>
            <a:ext cx="35956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Historia de … Antecedentes Nac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2920" y="857160"/>
            <a:ext cx="87868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ngreso Médico de 1876,  2do. Congreso Médico (1878), Primer Congreso Higiénico Pedagógico en 18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4200" y="1571760"/>
          <a:ext cx="8786880" cy="5095800"/>
        </p:xfrm>
        <a:graphic>
          <a:graphicData uri="http://schemas.openxmlformats.org/drawingml/2006/table">
            <a:tbl>
              <a:tblPr/>
              <a:tblGrid>
                <a:gridCol w="1171800"/>
                <a:gridCol w="7615080"/>
              </a:tblGrid>
              <a:tr h="49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b8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eced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b81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-19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establecen los Códigos Sanitarios. “Campaña antialcohólica” y “Campaña antivenérea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b95b22"/>
                          </a:solidFill>
                          <a:latin typeface="Calibri"/>
                        </a:rPr>
                        <a:t>19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b95b22"/>
                          </a:solidFill>
                          <a:latin typeface="Calibri"/>
                        </a:rPr>
                        <a:t>Se crea el Centro de Atención para Jóvenes  Drogadictos, hoy CIJ, A. 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crea el Centro Mexicano de Estudios en Farmacodependencia (CEMEF) y en 1978 el Centro Mexicano de Estudios en Salud Mental (CEMES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establece la Ley General de Salud. En 1987, se adiciona el listado de sustancias psicotrópicas y estupefacie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  <a:tr h="4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instituye el Consejo Nacional contra las Adicciones (CONADI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6-1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os Programas Nacionales contra el Alcoholismo, Tabaquismo y Farmacodepend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  <a:tr h="42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ra. ENA, (2da.), 1993; 1998 (3ra.); 2002 (4ta.), 5ta. (2008), 6ta. (20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</a:tr>
              <a:tr h="66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instaura la Norma Oficial Mexicana 028 (1999) para la Prevención, Tratamiento y Control de las Adicciones. Se actualiza en 200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tor</dc:creator>
  <dc:description/>
  <dc:language>en-US</dc:language>
  <cp:lastModifiedBy>HOME</cp:lastModifiedBy>
  <dcterms:modified xsi:type="dcterms:W3CDTF">2015-10-25T23:40:02Z</dcterms:modified>
  <cp:revision>24</cp:revision>
  <dc:subject/>
  <dc:title>INSTITUTO KANANKIL</dc:title>
</cp:coreProperties>
</file>